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6.jpeg" ContentType="image/jpeg"/>
  <Override PartName="/ppt/media/image17.wmf" ContentType="image/x-wmf"/>
  <Override PartName="/ppt/media/image16.png" ContentType="image/png"/>
  <Override PartName="/ppt/media/image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35.png" ContentType="image/png"/>
  <Override PartName="/ppt/media/image36.wmf" ContentType="image/x-wmf"/>
  <Override PartName="/ppt/media/image39.png" ContentType="image/png"/>
  <Override PartName="/ppt/media/image34.png" ContentType="image/png"/>
  <Override PartName="/ppt/media/image40.jpeg" ContentType="image/jpeg"/>
  <Override PartName="/ppt/media/image1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9.wmf" ContentType="image/x-wmf"/>
  <Override PartName="/ppt/media/image1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359900" cy="6119813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1960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539640" y="739800"/>
            <a:ext cx="566280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52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4D24-29AC-40D3-A7C5-8B2BAF614F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539640" y="739800"/>
            <a:ext cx="5662800" cy="370368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5DBE-6129-4121-BC5D-F254AA2F4B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539640" y="739800"/>
            <a:ext cx="5662800" cy="370368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31E0-36A9-4CCB-8583-CA38440829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539640" y="739800"/>
            <a:ext cx="5662800" cy="370368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870A-7BAE-421D-B810-32045027B6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96D3-9388-47FD-9DC2-1338FBA9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842472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360" y="3773520"/>
            <a:ext cx="842472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8967-3D24-4E3A-977B-3C9AE6A4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85480" y="17269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8360" y="37735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85480" y="37735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90B6-457D-4773-8641-AD06072D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27126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7040" y="1726920"/>
            <a:ext cx="27126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65720" y="1726920"/>
            <a:ext cx="27126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8360" y="3773520"/>
            <a:ext cx="27126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7040" y="3773520"/>
            <a:ext cx="27126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65720" y="3773520"/>
            <a:ext cx="27126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475C-E6FF-4B26-B655-52DFBEE5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512D-92A6-400E-9E4B-15DD10BF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68360" y="1726920"/>
            <a:ext cx="842472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CE33-E4E0-496C-9409-13195CC7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8424720" cy="3917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7D65-1D7E-4027-8BC9-FE498AF8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4111200" cy="3917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5480" y="1726920"/>
            <a:ext cx="4111200" cy="3917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AC4A-BB17-4FFC-8B95-C0E26B2A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0E63-D0F6-473F-8954-527A65D2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8360" y="630000"/>
            <a:ext cx="8424720" cy="47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2E39-3FA4-4A96-AEB7-5B78F577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5480" y="1726920"/>
            <a:ext cx="4111200" cy="3917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7735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5CFC-86D9-4E08-B787-21948F35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68360" y="1726920"/>
            <a:ext cx="842472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2C02-074C-43A7-A735-B5685CD8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4111200" cy="3917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5480" y="17269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85480" y="37735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39FD-AC3F-40CE-9C09-368AFC69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85480" y="17269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8360" y="3773520"/>
            <a:ext cx="842472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65A6-7F61-4231-AE89-0D613419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842472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360" y="3773520"/>
            <a:ext cx="842472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0456-D2C5-4447-ACC6-45D2FF16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85480" y="17269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8360" y="37735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85480" y="37735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28DB-6469-43C5-A1BD-426A6E1D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27126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7040" y="1726920"/>
            <a:ext cx="27126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65720" y="1726920"/>
            <a:ext cx="27126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8360" y="3773520"/>
            <a:ext cx="27126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7040" y="3773520"/>
            <a:ext cx="27126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65720" y="3773520"/>
            <a:ext cx="27126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2385-4767-49B8-B705-5F4E393E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1A167-CE74-4FC2-830F-3C106A2A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68360" y="1726920"/>
            <a:ext cx="842472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3FF03-A96E-4782-B531-56BBAC4E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8424720" cy="3917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557AD-7546-4D59-8951-1AC5D33E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4111200" cy="3917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85480" y="1726920"/>
            <a:ext cx="4111200" cy="3917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A7F05-2E9D-4C0C-8492-C6B89524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40203-1E59-418E-B260-02C16092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8424720" cy="3917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6612-6C92-426C-A3FE-B22C2380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68360" y="630000"/>
            <a:ext cx="8424720" cy="47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7AF0F-7022-4333-B7E9-7F0F2275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5480" y="1726920"/>
            <a:ext cx="4111200" cy="3917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8360" y="37735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03191-B607-46DC-9BD1-6FB7E06D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4111200" cy="3917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5480" y="17269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85480" y="37735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13C45-D3BE-4321-969D-4FE40A51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85480" y="17269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8360" y="3773520"/>
            <a:ext cx="842472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8C203-ECA5-4D1F-BF01-CA46F653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842472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360" y="3773520"/>
            <a:ext cx="842472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92460-12DF-444B-A5A3-AABF0ABF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5480" y="17269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37735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85480" y="37735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15784-4D2D-402A-85F1-EC1245EA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27126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17040" y="1726920"/>
            <a:ext cx="27126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65720" y="1726920"/>
            <a:ext cx="27126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8360" y="3773520"/>
            <a:ext cx="27126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17040" y="3773520"/>
            <a:ext cx="27126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65720" y="3773520"/>
            <a:ext cx="27126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AD692-D1E8-4256-BABA-D3216130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0CF2C-4667-41E4-9F19-CA09634F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68360" y="1726920"/>
            <a:ext cx="842472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04038-C448-47AF-941E-F423BF82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8424720" cy="3917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28883-0F81-49C9-B257-583C1E6E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4111200" cy="3917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726920"/>
            <a:ext cx="4111200" cy="3917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0330-839E-41D1-9D04-B4CE0C41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4111200" cy="3917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85480" y="1726920"/>
            <a:ext cx="4111200" cy="3917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24723-0CD9-4456-BB10-22A57A7D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BBB73-A4BC-4CE2-AFE7-E52B0AAE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68360" y="630000"/>
            <a:ext cx="8424720" cy="47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CF51F-81EA-4302-BA97-583A103D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85480" y="1726920"/>
            <a:ext cx="4111200" cy="3917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8360" y="37735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CA45D-D393-4ED4-B6B3-6AE2431B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4111200" cy="3917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5480" y="17269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785480" y="37735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8F631-0DD9-40BD-9C34-E78E01AE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85480" y="17269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8360" y="3773520"/>
            <a:ext cx="842472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A364F-17AC-4713-B80D-61ED4931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842472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360" y="3773520"/>
            <a:ext cx="842472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C5545-BD45-4B21-B0E3-3B631008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85480" y="17269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8360" y="37735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785480" y="37735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D81E2-8157-44AF-BF5C-7EB45DE6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27126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7040" y="1726920"/>
            <a:ext cx="27126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65720" y="1726920"/>
            <a:ext cx="27126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8360" y="3773520"/>
            <a:ext cx="27126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17040" y="3773520"/>
            <a:ext cx="27126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65720" y="3773520"/>
            <a:ext cx="27126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1D257-E325-4FD9-88F3-DCA5F657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D049-B5EB-492D-8E19-3478E5E9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68360" y="630000"/>
            <a:ext cx="8424720" cy="47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8585-426E-4563-A393-04E64148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5480" y="1726920"/>
            <a:ext cx="4111200" cy="3917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7735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A004-5A3E-4B5C-8F6E-7889B29B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4111200" cy="3917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5480" y="17269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85480" y="37735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B61-640E-48A0-9B93-6FC8B7B9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7269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5480" y="1726920"/>
            <a:ext cx="411120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773520"/>
            <a:ext cx="8424720" cy="1868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8D8E-0DB1-4BD2-B140-89C50458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4680"/>
            <a:ext cx="9380520" cy="92700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486320" y="-4680"/>
            <a:ext cx="4875120" cy="568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52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68360" y="1726920"/>
            <a:ext cx="8424720" cy="3917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marL="282600" indent="-28260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60240" indent="-25380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944640" indent="-254160">
              <a:spcBef>
                <a:spcPts val="67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227240" indent="-217440">
              <a:spcBef>
                <a:spcPts val="675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511280" indent="-217440">
              <a:spcBef>
                <a:spcPts val="675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511280" indent="-217440">
              <a:spcBef>
                <a:spcPts val="67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511280" indent="-217440">
              <a:spcBef>
                <a:spcPts val="67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68360" y="5673240"/>
            <a:ext cx="2184480" cy="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30600" y="5673240"/>
            <a:ext cx="3432240" cy="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13320" y="5673240"/>
            <a:ext cx="779400" cy="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E717-EAD0-4988-B98C-52224FAE628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181080"/>
            <a:ext cx="9398520" cy="577800"/>
            <a:chOff x="-19080" y="181080"/>
            <a:chExt cx="9398520" cy="5778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181080"/>
              <a:ext cx="9373680" cy="577800"/>
              <a:chOff x="-19080" y="181080"/>
              <a:chExt cx="9373680" cy="5778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3960" y="181080"/>
                <a:ext cx="9358560" cy="57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672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4320" rIns="94320" tIns="-46800" bIns="-46800" anchor="t">
                <a:noAutofit/>
              </a:bodyPr>
              <a:p>
                <a:pPr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2600" y="216000"/>
              <a:ext cx="9392040" cy="511920"/>
              <a:chOff x="-12600" y="216000"/>
              <a:chExt cx="9392040" cy="51192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60" y="216000"/>
                <a:ext cx="9379080" cy="51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2240" y="5029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4320" rIns="94320" tIns="-46800" bIns="-46800" anchor="t">
                <a:noAutofit/>
              </a:bodyPr>
              <a:p>
                <a:pPr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4680"/>
            <a:ext cx="9380520" cy="92700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486320" y="-4680"/>
            <a:ext cx="4875120" cy="568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181080"/>
            <a:ext cx="9398520" cy="577800"/>
            <a:chOff x="-19080" y="181080"/>
            <a:chExt cx="9398520" cy="5778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181080"/>
              <a:ext cx="9373680" cy="577800"/>
              <a:chOff x="-19080" y="181080"/>
              <a:chExt cx="9373680" cy="5778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3960" y="181080"/>
                <a:ext cx="9358560" cy="57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1"/>
              <p:cNvSpPr/>
              <p:nvPr/>
            </p:nvSpPr>
            <p:spPr>
              <a:xfrm rot="21435600">
                <a:off x="-18720" y="4672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4320" rIns="94320" tIns="-46800" bIns="-46800" anchor="t">
                <a:noAutofit/>
              </a:bodyPr>
              <a:p>
                <a:pPr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2600" y="216000"/>
              <a:ext cx="9392040" cy="511920"/>
              <a:chOff x="-12600" y="216000"/>
              <a:chExt cx="9392040" cy="51192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60" y="216000"/>
                <a:ext cx="9379080" cy="51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4"/>
              <p:cNvSpPr/>
              <p:nvPr/>
            </p:nvSpPr>
            <p:spPr>
              <a:xfrm rot="21435600">
                <a:off x="-12240" y="5029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4320" rIns="94320" tIns="-46800" bIns="-46800" anchor="t">
                <a:noAutofit/>
              </a:bodyPr>
              <a:p>
                <a:pPr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52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68360" y="1726920"/>
            <a:ext cx="8424720" cy="3917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marL="282600" indent="-28260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1" marL="660240" indent="-25380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2" marL="944640" indent="-254160">
              <a:spcBef>
                <a:spcPts val="67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3" marL="1227240" indent="-217440">
              <a:spcBef>
                <a:spcPts val="675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4" marL="1511280" indent="-217440">
              <a:spcBef>
                <a:spcPts val="675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5" marL="1511280" indent="-217440">
              <a:spcBef>
                <a:spcPts val="675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6" marL="1511280" indent="-217440">
              <a:spcBef>
                <a:spcPts val="675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68360" y="5673240"/>
            <a:ext cx="2184480" cy="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730600" y="5673240"/>
            <a:ext cx="3432240" cy="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113320" y="5673240"/>
            <a:ext cx="779400" cy="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DF35-8758-4242-A4DA-D7D5B52BAE9E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4680"/>
            <a:ext cx="9380520" cy="92700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486320" y="-4680"/>
            <a:ext cx="4875120" cy="568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181080"/>
            <a:ext cx="9398520" cy="577800"/>
            <a:chOff x="-19080" y="181080"/>
            <a:chExt cx="9398520" cy="5778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181080"/>
              <a:ext cx="9373680" cy="577800"/>
              <a:chOff x="-19080" y="181080"/>
              <a:chExt cx="9373680" cy="5778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3960" y="181080"/>
                <a:ext cx="9358560" cy="57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11"/>
              <p:cNvSpPr/>
              <p:nvPr/>
            </p:nvSpPr>
            <p:spPr>
              <a:xfrm rot="21435600">
                <a:off x="-18720" y="4672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4320" rIns="94320" tIns="-46800" bIns="-46800" anchor="t">
                <a:noAutofit/>
              </a:bodyPr>
              <a:p>
                <a:pPr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2600" y="216000"/>
              <a:ext cx="9392040" cy="511920"/>
              <a:chOff x="-12600" y="216000"/>
              <a:chExt cx="9392040" cy="51192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60" y="216000"/>
                <a:ext cx="9379080" cy="51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14"/>
              <p:cNvSpPr/>
              <p:nvPr/>
            </p:nvSpPr>
            <p:spPr>
              <a:xfrm rot="21435600">
                <a:off x="-12240" y="5029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4320" rIns="94320" tIns="-46800" bIns="-46800" anchor="t">
                <a:noAutofit/>
              </a:bodyPr>
              <a:p>
                <a:pPr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52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68360" y="1726920"/>
            <a:ext cx="8424720" cy="3917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marL="282600" indent="-28260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1" marL="660240" indent="-25380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2" marL="944640" indent="-254160">
              <a:spcBef>
                <a:spcPts val="67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3" marL="1227240" indent="-217440">
              <a:spcBef>
                <a:spcPts val="675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4" marL="1511280" indent="-217440">
              <a:spcBef>
                <a:spcPts val="675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5" marL="1511280" indent="-217440">
              <a:spcBef>
                <a:spcPts val="675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6" marL="1511280" indent="-217440">
              <a:spcBef>
                <a:spcPts val="675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68360" y="5673240"/>
            <a:ext cx="2184480" cy="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730600" y="5673240"/>
            <a:ext cx="3432240" cy="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113320" y="5673240"/>
            <a:ext cx="779400" cy="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7CA7-BCD4-4ED5-818A-351FC79FA65D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5"/>
          <p:cNvSpPr/>
          <p:nvPr/>
        </p:nvSpPr>
        <p:spPr>
          <a:xfrm flipV="1" rot="420000">
            <a:off x="3240000" y="988560"/>
            <a:ext cx="5383440" cy="367344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6"/>
          <p:cNvSpPr/>
          <p:nvPr/>
        </p:nvSpPr>
        <p:spPr>
          <a:xfrm flipV="1" rot="420000">
            <a:off x="8194320" y="4783680"/>
            <a:ext cx="158760" cy="13824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-2160" bIns="-2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8"/>
          <p:cNvSpPr/>
          <p:nvPr/>
        </p:nvSpPr>
        <p:spPr>
          <a:xfrm flipV="1">
            <a:off x="-9000" y="5190840"/>
            <a:ext cx="9380520" cy="93024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9"/>
          <p:cNvSpPr/>
          <p:nvPr/>
        </p:nvSpPr>
        <p:spPr>
          <a:xfrm flipV="1">
            <a:off x="4486320" y="5552280"/>
            <a:ext cx="4875120" cy="56844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84247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b">
            <a:noAutofit/>
          </a:bodyPr>
          <a:p>
            <a:pPr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52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68360" y="1726920"/>
            <a:ext cx="8424720" cy="3917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marL="282600" indent="-28260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60240" indent="-25380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944640" indent="-254160">
              <a:spcBef>
                <a:spcPts val="67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227240" indent="-217440">
              <a:spcBef>
                <a:spcPts val="675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511280" indent="-217440">
              <a:spcBef>
                <a:spcPts val="675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511280" indent="-217440">
              <a:spcBef>
                <a:spcPts val="67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511280" indent="-217440">
              <a:spcBef>
                <a:spcPts val="67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68360" y="5673240"/>
            <a:ext cx="2184480" cy="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730600" y="5673240"/>
            <a:ext cx="3432240" cy="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268840" y="5673240"/>
            <a:ext cx="623880" cy="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E8C8-2AB5-4C9B-ACBC-9FDBBB5549D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png"/><Relationship Id="rId3" Type="http://schemas.openxmlformats.org/officeDocument/2006/relationships/image" Target="../media/image8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2.png"/><Relationship Id="rId3" Type="http://schemas.openxmlformats.org/officeDocument/2006/relationships/image" Target="../media/image34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35.png"/><Relationship Id="rId4" Type="http://schemas.openxmlformats.org/officeDocument/2006/relationships/image" Target="../media/image8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2.png"/><Relationship Id="rId3" Type="http://schemas.openxmlformats.org/officeDocument/2006/relationships/image" Target="../media/image37.png"/><Relationship Id="rId4" Type="http://schemas.openxmlformats.org/officeDocument/2006/relationships/image" Target="../media/image7.png"/><Relationship Id="rId5" Type="http://schemas.openxmlformats.org/officeDocument/2006/relationships/image" Target="../media/image32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1618608663_1-funart_pro-p-oboi-fon-zhelto-goluboi-fon-1"/>
          <p:cNvPicPr/>
          <p:nvPr/>
        </p:nvPicPr>
        <p:blipFill>
          <a:blip r:embed="rId1"/>
          <a:stretch/>
        </p:blipFill>
        <p:spPr>
          <a:xfrm>
            <a:off x="0" y="0"/>
            <a:ext cx="9361440" cy="6121440"/>
          </a:xfrm>
          <a:prstGeom prst="rect">
            <a:avLst/>
          </a:prstGeom>
          <a:ln w="0">
            <a:noFill/>
          </a:ln>
        </p:spPr>
      </p:pic>
      <p:sp>
        <p:nvSpPr>
          <p:cNvPr id="203" name="Заголовок 2"/>
          <p:cNvSpPr/>
          <p:nvPr/>
        </p:nvSpPr>
        <p:spPr>
          <a:xfrm>
            <a:off x="552600" y="147600"/>
            <a:ext cx="81835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78120" bIns="7812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нансове управління Павлоградської міської рад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11160" y="1347840"/>
            <a:ext cx="9350280" cy="25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підсумки виконання бюджету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лоградської міської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иторіальної громади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9 місяців 2024 року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2468520" y="5030640"/>
            <a:ext cx="46814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відач – начальник управлінн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ЇСА РОЇ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1669745763_1-pibig-info-p-goluboi-fon-dlya-prezentatsii-krasivo-1"/>
          <p:cNvPicPr/>
          <p:nvPr/>
        </p:nvPicPr>
        <p:blipFill>
          <a:blip r:embed="rId1"/>
          <a:stretch/>
        </p:blipFill>
        <p:spPr>
          <a:xfrm>
            <a:off x="0" y="0"/>
            <a:ext cx="9361440" cy="612144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3"/>
          <p:cNvSpPr/>
          <p:nvPr/>
        </p:nvSpPr>
        <p:spPr>
          <a:xfrm>
            <a:off x="0" y="5889600"/>
            <a:ext cx="1878120" cy="65160"/>
          </a:xfrm>
          <a:prstGeom prst="rect">
            <a:avLst/>
          </a:prstGeom>
          <a:solidFill>
            <a:srgbClr val="3366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2616120" y="5889600"/>
            <a:ext cx="6745320" cy="65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Google Shape;101;p25" descr=""/>
          <p:cNvPicPr/>
          <p:nvPr/>
        </p:nvPicPr>
        <p:blipFill>
          <a:blip r:embed="rId2"/>
          <a:srcRect l="0" t="34590" r="0" b="0"/>
          <a:stretch/>
        </p:blipFill>
        <p:spPr>
          <a:xfrm>
            <a:off x="0" y="0"/>
            <a:ext cx="1143000" cy="665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7077718"/>
          <p:cNvPicPr/>
          <p:nvPr/>
        </p:nvPicPr>
        <p:blipFill>
          <a:blip r:embed="rId3"/>
          <a:stretch/>
        </p:blipFill>
        <p:spPr>
          <a:xfrm>
            <a:off x="1954080" y="5672160"/>
            <a:ext cx="516240" cy="4492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4"/>
          <p:cNvSpPr/>
          <p:nvPr/>
        </p:nvSpPr>
        <p:spPr>
          <a:xfrm>
            <a:off x="8209080" y="468360"/>
            <a:ext cx="10015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0" tIns="2736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. гр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Заголовок 4"/>
          <p:cNvSpPr/>
          <p:nvPr/>
        </p:nvSpPr>
        <p:spPr>
          <a:xfrm>
            <a:off x="1289160" y="108000"/>
            <a:ext cx="7813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приємства, які мають заборгованість по платежам в бюджет Павлоградської міської територіальної громад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48"/>
          <p:cNvSpPr/>
          <p:nvPr/>
        </p:nvSpPr>
        <p:spPr>
          <a:xfrm>
            <a:off x="8881200" y="0"/>
            <a:ext cx="2210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44360" y="757080"/>
          <a:ext cx="9072720" cy="4840560"/>
        </p:xfrm>
        <a:graphic>
          <a:graphicData uri="http://schemas.openxmlformats.org/drawingml/2006/table">
            <a:tbl>
              <a:tblPr/>
              <a:tblGrid>
                <a:gridCol w="5502240"/>
                <a:gridCol w="1301760"/>
                <a:gridCol w="1171800"/>
                <a:gridCol w="1096920"/>
              </a:tblGrid>
              <a:tr h="202680">
                <a:tc rowSpan="2"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ідприємства, установ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rowSpan="2"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атковий борг на 01.01.2024 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rowSpan="2"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атковий борг на 01.10.2024 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9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” / “-”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02680">
                <a:tc>
                  <a:txBody>
                    <a:bodyPr lIns="5040" rIns="504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Т "Завод "Павлоградхіммаш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4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190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23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02680">
                <a:tc>
                  <a:txBody>
                    <a:bodyPr lIns="5040" rIns="504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В “Павлоградський завод технологічного обладнання”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42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8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38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02680">
                <a:tc>
                  <a:txBody>
                    <a:bodyPr lIns="5040" rIns="504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В "Павлоград Буддеталь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21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21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99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02680">
                <a:tc>
                  <a:txBody>
                    <a:bodyPr lIns="5040" rIns="504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П ДАК "Хліб України" Павлоградський комбінат хлібопродуктів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3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3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02680">
                <a:tc>
                  <a:txBody>
                    <a:bodyPr lIns="5040" rIns="504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В "Завод  металоконструкцій та нестандартного обладнання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554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554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02680">
                <a:tc>
                  <a:txBody>
                    <a:bodyPr lIns="5040" rIns="504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В "АСГ – груп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95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95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02680">
                <a:tc>
                  <a:txBody>
                    <a:bodyPr lIns="5040" rIns="504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П "Єдність 2005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3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42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02680">
                <a:tc>
                  <a:txBody>
                    <a:bodyPr lIns="5040" rIns="504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В  "Мега -Дизайн Торговий Дім"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3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02680">
                <a:tc>
                  <a:txBody>
                    <a:bodyPr lIns="5040" rIns="504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П "Гиро"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6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2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56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02680">
                <a:tc>
                  <a:txBody>
                    <a:bodyPr lIns="5040" rIns="504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В "Завод "Базальтові вироби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02680">
                <a:tc>
                  <a:txBody>
                    <a:bodyPr lIns="5040" rIns="504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В Павлоградський трубний завод  "Славсант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1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0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02680">
                <a:tc>
                  <a:txBody>
                    <a:bodyPr lIns="5040" rIns="504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В "Торгівельна група "Тако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02680">
                <a:tc>
                  <a:txBody>
                    <a:bodyPr lIns="5040" rIns="504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В "Альянс – 2006”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85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02680">
                <a:tc>
                  <a:txBody>
                    <a:bodyPr lIns="5040" rIns="504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В “Астра Оіл”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9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02680">
                <a:tc>
                  <a:txBody>
                    <a:bodyPr lIns="5040" rIns="504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В “ПСУ – 417 Л.П.Е.”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93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1669745763_1-pibig-info-p-goluboi-fon-dlya-prezentatsii-krasivo-1"/>
          <p:cNvPicPr/>
          <p:nvPr/>
        </p:nvPicPr>
        <p:blipFill>
          <a:blip r:embed="rId1"/>
          <a:stretch/>
        </p:blipFill>
        <p:spPr>
          <a:xfrm>
            <a:off x="0" y="0"/>
            <a:ext cx="9361440" cy="6121440"/>
          </a:xfrm>
          <a:prstGeom prst="rect">
            <a:avLst/>
          </a:prstGeom>
          <a:ln w="0">
            <a:noFill/>
          </a:ln>
        </p:spPr>
      </p:pic>
      <p:pic>
        <p:nvPicPr>
          <p:cNvPr id="293" name="Google Shape;101;p25" descr=""/>
          <p:cNvPicPr/>
          <p:nvPr/>
        </p:nvPicPr>
        <p:blipFill>
          <a:blip r:embed="rId2"/>
          <a:srcRect l="0" t="34590" r="0" b="0"/>
          <a:stretch/>
        </p:blipFill>
        <p:spPr>
          <a:xfrm>
            <a:off x="0" y="0"/>
            <a:ext cx="1143000" cy="665280"/>
          </a:xfrm>
          <a:prstGeom prst="rect">
            <a:avLst/>
          </a:prstGeom>
          <a:ln w="0">
            <a:noFill/>
          </a:ln>
        </p:spPr>
      </p:pic>
      <p:sp>
        <p:nvSpPr>
          <p:cNvPr id="294" name="Заголовок 4"/>
          <p:cNvSpPr/>
          <p:nvPr/>
        </p:nvSpPr>
        <p:spPr>
          <a:xfrm>
            <a:off x="1224000" y="252360"/>
            <a:ext cx="7613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ння видаткової частини  бюджету Павлоградської міської територіальної громади за 9 місяців 2023 - 2024 рокі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3"/>
          <p:cNvSpPr/>
          <p:nvPr/>
        </p:nvSpPr>
        <p:spPr>
          <a:xfrm>
            <a:off x="8497800" y="828720"/>
            <a:ext cx="7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.гр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3"/>
          <p:cNvSpPr/>
          <p:nvPr/>
        </p:nvSpPr>
        <p:spPr>
          <a:xfrm>
            <a:off x="8880840" y="0"/>
            <a:ext cx="28512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Диаграмма 5"/>
          <p:cNvGraphicFramePr/>
          <p:nvPr/>
        </p:nvGraphicFramePr>
        <p:xfrm>
          <a:off x="1512720" y="1547640"/>
          <a:ext cx="6332760" cy="4284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8" name="Диаграмма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2720" y="1547640"/>
                    <a:ext cx="633276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AutoShape 11"/>
          <p:cNvSpPr/>
          <p:nvPr/>
        </p:nvSpPr>
        <p:spPr>
          <a:xfrm>
            <a:off x="5977080" y="900000"/>
            <a:ext cx="3384360" cy="1886040"/>
          </a:xfrm>
          <a:prstGeom prst="horizontalScroll">
            <a:avLst>
              <a:gd name="adj" fmla="val 12500"/>
            </a:avLst>
          </a:prstGeom>
          <a:solidFill>
            <a:srgbClr val="ffff99">
              <a:alpha val="69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тки ПМТГ  всьог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місяців 2023 року – 885697,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місяців 2024 року –  865408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еншення проти 9 місяців 2023 ро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0289,3 тис. грн, або на 2,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1033"/>
          <p:cNvGrpSpPr/>
          <p:nvPr/>
        </p:nvGrpSpPr>
        <p:grpSpPr>
          <a:xfrm>
            <a:off x="1297080" y="828720"/>
            <a:ext cx="1295280" cy="1457280"/>
            <a:chOff x="1297080" y="828720"/>
            <a:chExt cx="1295280" cy="1457280"/>
          </a:xfrm>
        </p:grpSpPr>
        <p:sp>
          <p:nvSpPr>
            <p:cNvPr id="301" name="任意多边形 93"/>
            <p:cNvSpPr/>
            <p:nvPr/>
          </p:nvSpPr>
          <p:spPr>
            <a:xfrm>
              <a:off x="1297080" y="828720"/>
              <a:ext cx="1287360" cy="1444680"/>
            </a:xfrm>
            <a:prstGeom prst="pie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02060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任意多边形 94"/>
            <p:cNvSpPr/>
            <p:nvPr/>
          </p:nvSpPr>
          <p:spPr>
            <a:xfrm>
              <a:off x="1305000" y="841320"/>
              <a:ext cx="1287360" cy="1444680"/>
            </a:xfrm>
            <a:prstGeom prst="pie">
              <a:avLst/>
            </a:prstGeom>
            <a:gradFill rotWithShape="0">
              <a:gsLst>
                <a:gs pos="0">
                  <a:srgbClr val="15c2ff"/>
                </a:gs>
                <a:gs pos="100000">
                  <a:srgbClr val="0070c0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13"/>
          <p:cNvSpPr/>
          <p:nvPr/>
        </p:nvSpPr>
        <p:spPr>
          <a:xfrm>
            <a:off x="1512720" y="126036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71647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组合 1033"/>
          <p:cNvGrpSpPr/>
          <p:nvPr/>
        </p:nvGrpSpPr>
        <p:grpSpPr>
          <a:xfrm>
            <a:off x="3529080" y="1331640"/>
            <a:ext cx="1008000" cy="1368360"/>
            <a:chOff x="3529080" y="1331640"/>
            <a:chExt cx="1008000" cy="1368360"/>
          </a:xfrm>
        </p:grpSpPr>
        <p:sp>
          <p:nvSpPr>
            <p:cNvPr id="305" name="任意多边形 93"/>
            <p:cNvSpPr/>
            <p:nvPr/>
          </p:nvSpPr>
          <p:spPr>
            <a:xfrm flipV="1">
              <a:off x="3529080" y="1342080"/>
              <a:ext cx="1003320" cy="1357560"/>
            </a:xfrm>
            <a:prstGeom prst="pie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02060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任意多边形 94"/>
            <p:cNvSpPr/>
            <p:nvPr/>
          </p:nvSpPr>
          <p:spPr>
            <a:xfrm flipV="1">
              <a:off x="3533760" y="1331280"/>
              <a:ext cx="1003320" cy="1357560"/>
            </a:xfrm>
            <a:prstGeom prst="pie">
              <a:avLst/>
            </a:prstGeom>
            <a:gradFill rotWithShape="0">
              <a:gsLst>
                <a:gs pos="0">
                  <a:srgbClr val="15c2ff"/>
                </a:gs>
                <a:gs pos="100000">
                  <a:srgbClr val="0070c0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 Box 17"/>
          <p:cNvSpPr/>
          <p:nvPr/>
        </p:nvSpPr>
        <p:spPr>
          <a:xfrm>
            <a:off x="3456000" y="1260360"/>
            <a:ext cx="884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91936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8,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1669745763_1-pibig-info-p-goluboi-fon-dlya-prezentatsii-krasivo-1"/>
          <p:cNvPicPr/>
          <p:nvPr/>
        </p:nvPicPr>
        <p:blipFill>
          <a:blip r:embed="rId1"/>
          <a:stretch/>
        </p:blipFill>
        <p:spPr>
          <a:xfrm>
            <a:off x="0" y="0"/>
            <a:ext cx="9361440" cy="612144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0" y="5759280"/>
            <a:ext cx="1878120" cy="65160"/>
          </a:xfrm>
          <a:prstGeom prst="rect">
            <a:avLst/>
          </a:prstGeom>
          <a:solidFill>
            <a:srgbClr val="3366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2616120" y="5759280"/>
            <a:ext cx="6745320" cy="65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Google Shape;101;p25" descr=""/>
          <p:cNvPicPr/>
          <p:nvPr/>
        </p:nvPicPr>
        <p:blipFill>
          <a:blip r:embed="rId2"/>
          <a:srcRect l="0" t="34590" r="0" b="0"/>
          <a:stretch/>
        </p:blipFill>
        <p:spPr>
          <a:xfrm>
            <a:off x="0" y="0"/>
            <a:ext cx="1297080" cy="7542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7077718"/>
          <p:cNvPicPr/>
          <p:nvPr/>
        </p:nvPicPr>
        <p:blipFill>
          <a:blip r:embed="rId3"/>
          <a:stretch/>
        </p:blipFill>
        <p:spPr>
          <a:xfrm>
            <a:off x="1954080" y="5504040"/>
            <a:ext cx="588960" cy="512640"/>
          </a:xfrm>
          <a:prstGeom prst="rect">
            <a:avLst/>
          </a:prstGeom>
          <a:ln w="0">
            <a:noFill/>
          </a:ln>
        </p:spPr>
      </p:pic>
      <p:sp>
        <p:nvSpPr>
          <p:cNvPr id="313" name="Заголовок 5"/>
          <p:cNvSpPr/>
          <p:nvPr/>
        </p:nvSpPr>
        <p:spPr>
          <a:xfrm>
            <a:off x="1363680" y="0"/>
            <a:ext cx="7346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видатків загального фонду бюджету Павлоградської міської територіальної громади за 9 місяців 2024 року (у розрізі галузей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8880840" y="0"/>
            <a:ext cx="28512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2"/>
          <p:cNvSpPr/>
          <p:nvPr/>
        </p:nvSpPr>
        <p:spPr>
          <a:xfrm>
            <a:off x="8123760" y="682560"/>
            <a:ext cx="667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.гр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4"/>
          <p:cNvSpPr/>
          <p:nvPr/>
        </p:nvSpPr>
        <p:spPr>
          <a:xfrm>
            <a:off x="0" y="685800"/>
            <a:ext cx="1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sp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Object 13"/>
          <p:cNvGraphicFramePr/>
          <p:nvPr/>
        </p:nvGraphicFramePr>
        <p:xfrm>
          <a:off x="576360" y="828720"/>
          <a:ext cx="8180280" cy="4583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18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6360" y="828720"/>
                    <a:ext cx="818028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Oval 10"/>
          <p:cNvSpPr/>
          <p:nvPr/>
        </p:nvSpPr>
        <p:spPr>
          <a:xfrm>
            <a:off x="3943440" y="3144960"/>
            <a:ext cx="1842840" cy="77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ього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8169,8тис. гр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1669745763_1-pibig-info-p-goluboi-fon-dlya-prezentatsii-krasivo-1"/>
          <p:cNvPicPr/>
          <p:nvPr/>
        </p:nvPicPr>
        <p:blipFill>
          <a:blip r:embed="rId1"/>
          <a:stretch/>
        </p:blipFill>
        <p:spPr>
          <a:xfrm>
            <a:off x="0" y="0"/>
            <a:ext cx="9361440" cy="612144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3"/>
          <p:cNvSpPr/>
          <p:nvPr/>
        </p:nvSpPr>
        <p:spPr>
          <a:xfrm>
            <a:off x="0" y="6056280"/>
            <a:ext cx="1878120" cy="65160"/>
          </a:xfrm>
          <a:prstGeom prst="rect">
            <a:avLst/>
          </a:prstGeom>
          <a:solidFill>
            <a:srgbClr val="3366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616120" y="6056280"/>
            <a:ext cx="6745320" cy="65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Google Shape;101;p25" descr=""/>
          <p:cNvPicPr/>
          <p:nvPr/>
        </p:nvPicPr>
        <p:blipFill>
          <a:blip r:embed="rId2"/>
          <a:srcRect l="0" t="34590" r="0" b="0"/>
          <a:stretch/>
        </p:blipFill>
        <p:spPr>
          <a:xfrm>
            <a:off x="0" y="0"/>
            <a:ext cx="1297080" cy="7542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7077718"/>
          <p:cNvPicPr/>
          <p:nvPr/>
        </p:nvPicPr>
        <p:blipFill>
          <a:blip r:embed="rId3"/>
          <a:stretch/>
        </p:blipFill>
        <p:spPr>
          <a:xfrm>
            <a:off x="1954080" y="5607000"/>
            <a:ext cx="588960" cy="514440"/>
          </a:xfrm>
          <a:prstGeom prst="rect">
            <a:avLst/>
          </a:prstGeom>
          <a:ln w="0">
            <a:noFill/>
          </a:ln>
        </p:spPr>
      </p:pic>
      <p:sp>
        <p:nvSpPr>
          <p:cNvPr id="325" name="Заголовок 5"/>
          <p:cNvSpPr/>
          <p:nvPr/>
        </p:nvSpPr>
        <p:spPr>
          <a:xfrm>
            <a:off x="1289160" y="231840"/>
            <a:ext cx="80722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видатків загального фонду бюджет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лоградської міської територіальної громади за 9 місяців 2024 рок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економічною класифікацією бюджет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9"/>
          <p:cNvGraphicFramePr/>
          <p:nvPr/>
        </p:nvGraphicFramePr>
        <p:xfrm>
          <a:off x="720720" y="1044720"/>
          <a:ext cx="8018640" cy="4097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27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0720" y="1044720"/>
                    <a:ext cx="8018640" cy="40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AutoShape 5"/>
          <p:cNvSpPr/>
          <p:nvPr/>
        </p:nvSpPr>
        <p:spPr>
          <a:xfrm>
            <a:off x="4311720" y="5349960"/>
            <a:ext cx="5049720" cy="771480"/>
          </a:xfrm>
          <a:prstGeom prst="wedgeRectCallout">
            <a:avLst>
              <a:gd name="adj1" fmla="val -22708"/>
              <a:gd name="adj2" fmla="val -724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" rIns="0" tIns="1944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о захищені видатки –67,7% (486390,5тис. грн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і видатки 12,1%  (87258,6тис. грн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ерти підприємствам – 17,8% (127552,2тис. грн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ерти органам державного управління – 2,4% (16968,5 тис.грн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4"/>
          <p:cNvSpPr/>
          <p:nvPr/>
        </p:nvSpPr>
        <p:spPr>
          <a:xfrm>
            <a:off x="8292960" y="876240"/>
            <a:ext cx="85428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0" tIns="2736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. гр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"/>
          <p:cNvSpPr/>
          <p:nvPr/>
        </p:nvSpPr>
        <p:spPr>
          <a:xfrm>
            <a:off x="3672000" y="2773440"/>
            <a:ext cx="21193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1320" rIns="31320" tIns="1944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ього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8169,8тис. гр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8880840" y="0"/>
            <a:ext cx="28512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1669745763_1-pibig-info-p-goluboi-fon-dlya-prezentatsii-krasivo-1"/>
          <p:cNvPicPr/>
          <p:nvPr/>
        </p:nvPicPr>
        <p:blipFill>
          <a:blip r:embed="rId1"/>
          <a:stretch/>
        </p:blipFill>
        <p:spPr>
          <a:xfrm>
            <a:off x="0" y="0"/>
            <a:ext cx="9361440" cy="612144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3"/>
          <p:cNvSpPr/>
          <p:nvPr/>
        </p:nvSpPr>
        <p:spPr>
          <a:xfrm>
            <a:off x="0" y="5869080"/>
            <a:ext cx="1878120" cy="65160"/>
          </a:xfrm>
          <a:prstGeom prst="rect">
            <a:avLst/>
          </a:prstGeom>
          <a:solidFill>
            <a:srgbClr val="3366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2616120" y="5869080"/>
            <a:ext cx="6745320" cy="65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Google Shape;101;p25" descr=""/>
          <p:cNvPicPr/>
          <p:nvPr/>
        </p:nvPicPr>
        <p:blipFill>
          <a:blip r:embed="rId2"/>
          <a:srcRect l="0" t="34604" r="0" b="0"/>
          <a:stretch/>
        </p:blipFill>
        <p:spPr>
          <a:xfrm>
            <a:off x="0" y="0"/>
            <a:ext cx="936720" cy="5446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7077718"/>
          <p:cNvPicPr/>
          <p:nvPr/>
        </p:nvPicPr>
        <p:blipFill>
          <a:blip r:embed="rId3"/>
          <a:stretch/>
        </p:blipFill>
        <p:spPr>
          <a:xfrm>
            <a:off x="2016000" y="5668920"/>
            <a:ext cx="517680" cy="452520"/>
          </a:xfrm>
          <a:prstGeom prst="rect">
            <a:avLst/>
          </a:prstGeom>
          <a:ln w="0">
            <a:noFill/>
          </a:ln>
        </p:spPr>
      </p:pic>
      <p:sp>
        <p:nvSpPr>
          <p:cNvPr id="337" name="Заголовок 5"/>
          <p:cNvSpPr/>
          <p:nvPr/>
        </p:nvSpPr>
        <p:spPr>
          <a:xfrm>
            <a:off x="1289160" y="468360"/>
            <a:ext cx="80722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Виконання заходів цільових програм з підтримки військових формувань, ЗСУ та інших формувань за 9 місяців 2024 рок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 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4"/>
          <p:cNvSpPr/>
          <p:nvPr/>
        </p:nvSpPr>
        <p:spPr>
          <a:xfrm>
            <a:off x="8507520" y="1476360"/>
            <a:ext cx="8539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0" tIns="2736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. гр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3"/>
          <p:cNvSpPr/>
          <p:nvPr/>
        </p:nvSpPr>
        <p:spPr>
          <a:xfrm>
            <a:off x="8880840" y="0"/>
            <a:ext cx="28512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Rectangle 2"/>
          <p:cNvGrpSpPr/>
          <p:nvPr/>
        </p:nvGrpSpPr>
        <p:grpSpPr>
          <a:xfrm>
            <a:off x="0" y="1689120"/>
            <a:ext cx="9363240" cy="2054160"/>
            <a:chOff x="0" y="1689120"/>
            <a:chExt cx="9363240" cy="2054160"/>
          </a:xfrm>
        </p:grpSpPr>
        <p:pic>
          <p:nvPicPr>
            <p:cNvPr id="341" name="Rectangle 2" descr=""/>
            <p:cNvPicPr/>
            <p:nvPr/>
          </p:nvPicPr>
          <p:blipFill>
            <a:blip r:embed="rId4"/>
            <a:stretch/>
          </p:blipFill>
          <p:spPr>
            <a:xfrm>
              <a:off x="0" y="1689120"/>
              <a:ext cx="936324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4680" y="1697040"/>
              <a:ext cx="9352080" cy="20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Oval 13"/>
          <p:cNvSpPr/>
          <p:nvPr/>
        </p:nvSpPr>
        <p:spPr>
          <a:xfrm>
            <a:off x="504720" y="1908000"/>
            <a:ext cx="1589040" cy="1511640"/>
          </a:xfrm>
          <a:prstGeom prst="ellipse">
            <a:avLst/>
          </a:prstGeom>
          <a:solidFill>
            <a:srgbClr val="ffffff">
              <a:alpha val="1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Arc 65"/>
          <p:cNvGrpSpPr/>
          <p:nvPr/>
        </p:nvGrpSpPr>
        <p:grpSpPr>
          <a:xfrm>
            <a:off x="1517760" y="1835280"/>
            <a:ext cx="731880" cy="1530360"/>
            <a:chOff x="1517760" y="1835280"/>
            <a:chExt cx="731880" cy="1530360"/>
          </a:xfrm>
        </p:grpSpPr>
        <p:pic>
          <p:nvPicPr>
            <p:cNvPr id="345" name="Arc 65" descr=""/>
            <p:cNvPicPr/>
            <p:nvPr/>
          </p:nvPicPr>
          <p:blipFill>
            <a:blip r:embed="rId5"/>
            <a:stretch/>
          </p:blipFill>
          <p:spPr>
            <a:xfrm>
              <a:off x="1517760" y="1835280"/>
              <a:ext cx="73188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1519200" y="1857240"/>
              <a:ext cx="704880" cy="14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Oval 31"/>
          <p:cNvSpPr/>
          <p:nvPr/>
        </p:nvSpPr>
        <p:spPr>
          <a:xfrm>
            <a:off x="4248000" y="2197080"/>
            <a:ext cx="150840" cy="150840"/>
          </a:xfrm>
          <a:prstGeom prst="ellipse">
            <a:avLst/>
          </a:prstGeom>
          <a:solidFill>
            <a:srgbClr val="833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Arc 63"/>
          <p:cNvGrpSpPr/>
          <p:nvPr/>
        </p:nvGrpSpPr>
        <p:grpSpPr>
          <a:xfrm>
            <a:off x="3670200" y="1908000"/>
            <a:ext cx="547920" cy="268560"/>
            <a:chOff x="3670200" y="1908000"/>
            <a:chExt cx="547920" cy="268560"/>
          </a:xfrm>
        </p:grpSpPr>
        <p:pic>
          <p:nvPicPr>
            <p:cNvPr id="349" name="Arc 63" descr=""/>
            <p:cNvPicPr/>
            <p:nvPr/>
          </p:nvPicPr>
          <p:blipFill>
            <a:blip r:embed="rId6"/>
            <a:stretch/>
          </p:blipFill>
          <p:spPr>
            <a:xfrm>
              <a:off x="3670200" y="1908000"/>
              <a:ext cx="547920" cy="2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3678120" y="1932120"/>
              <a:ext cx="52092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Arc 41"/>
          <p:cNvGrpSpPr/>
          <p:nvPr/>
        </p:nvGrpSpPr>
        <p:grpSpPr>
          <a:xfrm>
            <a:off x="5754600" y="1835280"/>
            <a:ext cx="944640" cy="1103040"/>
            <a:chOff x="5754600" y="1835280"/>
            <a:chExt cx="944640" cy="1103040"/>
          </a:xfrm>
        </p:grpSpPr>
        <p:pic>
          <p:nvPicPr>
            <p:cNvPr id="352" name="Arc 41" descr=""/>
            <p:cNvPicPr/>
            <p:nvPr/>
          </p:nvPicPr>
          <p:blipFill>
            <a:blip r:embed="rId7"/>
            <a:stretch/>
          </p:blipFill>
          <p:spPr>
            <a:xfrm>
              <a:off x="5754600" y="1835280"/>
              <a:ext cx="944640" cy="11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762520" y="1859040"/>
              <a:ext cx="91440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36"/>
          <p:cNvSpPr/>
          <p:nvPr/>
        </p:nvSpPr>
        <p:spPr>
          <a:xfrm>
            <a:off x="938520" y="248436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25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3"/>
          <p:cNvSpPr/>
          <p:nvPr/>
        </p:nvSpPr>
        <p:spPr>
          <a:xfrm>
            <a:off x="2808360" y="1981080"/>
            <a:ext cx="1589040" cy="1511280"/>
          </a:xfrm>
          <a:prstGeom prst="ellipse">
            <a:avLst/>
          </a:prstGeom>
          <a:solidFill>
            <a:srgbClr val="ffffff">
              <a:alpha val="1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3"/>
          <p:cNvSpPr/>
          <p:nvPr/>
        </p:nvSpPr>
        <p:spPr>
          <a:xfrm>
            <a:off x="4968720" y="1981080"/>
            <a:ext cx="1589400" cy="1511280"/>
          </a:xfrm>
          <a:prstGeom prst="ellipse">
            <a:avLst/>
          </a:prstGeom>
          <a:solidFill>
            <a:srgbClr val="ffffff">
              <a:alpha val="1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3"/>
          <p:cNvSpPr/>
          <p:nvPr/>
        </p:nvSpPr>
        <p:spPr>
          <a:xfrm>
            <a:off x="7416720" y="2052720"/>
            <a:ext cx="1589040" cy="1511280"/>
          </a:xfrm>
          <a:prstGeom prst="ellipse">
            <a:avLst/>
          </a:prstGeom>
          <a:solidFill>
            <a:srgbClr val="ffffff">
              <a:alpha val="19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54"/>
          <p:cNvSpPr/>
          <p:nvPr/>
        </p:nvSpPr>
        <p:spPr>
          <a:xfrm>
            <a:off x="8713800" y="2197080"/>
            <a:ext cx="330120" cy="311040"/>
          </a:xfrm>
          <a:prstGeom prst="ellipse">
            <a:avLst/>
          </a:prstGeom>
          <a:solidFill>
            <a:srgbClr val="8335e5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1"/>
          <p:cNvSpPr/>
          <p:nvPr/>
        </p:nvSpPr>
        <p:spPr>
          <a:xfrm>
            <a:off x="3170520" y="248436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25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2"/>
          <p:cNvSpPr/>
          <p:nvPr/>
        </p:nvSpPr>
        <p:spPr>
          <a:xfrm>
            <a:off x="5257800" y="25560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698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3"/>
          <p:cNvSpPr/>
          <p:nvPr/>
        </p:nvSpPr>
        <p:spPr>
          <a:xfrm>
            <a:off x="7634520" y="25560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9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4"/>
          <p:cNvSpPr/>
          <p:nvPr/>
        </p:nvSpPr>
        <p:spPr>
          <a:xfrm>
            <a:off x="844560" y="3716280"/>
            <a:ext cx="18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5"/>
          <p:cNvSpPr/>
          <p:nvPr/>
        </p:nvSpPr>
        <p:spPr>
          <a:xfrm>
            <a:off x="216000" y="4284720"/>
            <a:ext cx="201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фська допомога військовим частинам Національної гвардії України на 2022-2026 ро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6"/>
          <p:cNvSpPr/>
          <p:nvPr/>
        </p:nvSpPr>
        <p:spPr>
          <a:xfrm>
            <a:off x="2376360" y="3781440"/>
            <a:ext cx="2233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іпшення організації призову громадян на військову службу, під час проведення мобілізації, приписки до призовної дільниці та підготовки юнаків до військової служби 2024-2026 ро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7"/>
          <p:cNvSpPr/>
          <p:nvPr/>
        </p:nvSpPr>
        <p:spPr>
          <a:xfrm>
            <a:off x="4608360" y="4429080"/>
            <a:ext cx="2233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а “Територіальної оборони Павлоградської міської територіальної громади на 2024 рік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8"/>
          <p:cNvSpPr/>
          <p:nvPr/>
        </p:nvSpPr>
        <p:spPr>
          <a:xfrm>
            <a:off x="6985080" y="3924360"/>
            <a:ext cx="2233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езпечення громадського правопорядку та громадської безпеки на території м. Павлоград на період 2021-2025 ро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1"/>
          <p:cNvSpPr/>
          <p:nvPr/>
        </p:nvSpPr>
        <p:spPr>
          <a:xfrm>
            <a:off x="3598200" y="1116000"/>
            <a:ext cx="30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342,8 тис. гр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1669745763_1-pibig-info-p-goluboi-fon-dlya-prezentatsii-krasivo-1 (1)"/>
          <p:cNvPicPr/>
          <p:nvPr/>
        </p:nvPicPr>
        <p:blipFill>
          <a:blip r:embed="rId1"/>
          <a:stretch/>
        </p:blipFill>
        <p:spPr>
          <a:xfrm>
            <a:off x="0" y="0"/>
            <a:ext cx="9361440" cy="6121440"/>
          </a:xfrm>
          <a:prstGeom prst="rect">
            <a:avLst/>
          </a:prstGeom>
          <a:ln w="0">
            <a:noFill/>
          </a:ln>
        </p:spPr>
      </p:pic>
      <p:pic>
        <p:nvPicPr>
          <p:cNvPr id="369" name="Group 3" descr=""/>
          <p:cNvPicPr/>
          <p:nvPr/>
        </p:nvPicPr>
        <p:blipFill>
          <a:blip r:embed="rId2"/>
          <a:stretch/>
        </p:blipFill>
        <p:spPr>
          <a:xfrm>
            <a:off x="328680" y="1000080"/>
            <a:ext cx="1847880" cy="1974960"/>
          </a:xfrm>
          <a:prstGeom prst="rect">
            <a:avLst/>
          </a:prstGeom>
          <a:ln w="0">
            <a:noFill/>
          </a:ln>
        </p:spPr>
      </p:pic>
      <p:grpSp>
        <p:nvGrpSpPr>
          <p:cNvPr id="370" name="组合 51"/>
          <p:cNvGrpSpPr/>
          <p:nvPr/>
        </p:nvGrpSpPr>
        <p:grpSpPr>
          <a:xfrm>
            <a:off x="2330280" y="917640"/>
            <a:ext cx="6559560" cy="343800"/>
            <a:chOff x="2330280" y="917640"/>
            <a:chExt cx="6559560" cy="343800"/>
          </a:xfrm>
        </p:grpSpPr>
        <p:sp>
          <p:nvSpPr>
            <p:cNvPr id="371" name="Straight Connector 22"/>
            <p:cNvSpPr/>
            <p:nvPr/>
          </p:nvSpPr>
          <p:spPr>
            <a:xfrm>
              <a:off x="3159000" y="938160"/>
              <a:ext cx="0" cy="212760"/>
            </a:xfrm>
            <a:prstGeom prst="line">
              <a:avLst/>
            </a:prstGeom>
            <a:ln w="57240">
              <a:solidFill>
                <a:srgbClr val="8f85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Group 23"/>
            <p:cNvGrpSpPr/>
            <p:nvPr/>
          </p:nvGrpSpPr>
          <p:grpSpPr>
            <a:xfrm>
              <a:off x="3297600" y="917640"/>
              <a:ext cx="5592240" cy="343800"/>
              <a:chOff x="3297600" y="917640"/>
              <a:chExt cx="5592240" cy="343800"/>
            </a:xfrm>
          </p:grpSpPr>
          <p:sp>
            <p:nvSpPr>
              <p:cNvPr id="373" name="TextBox 25"/>
              <p:cNvSpPr/>
              <p:nvPr/>
            </p:nvSpPr>
            <p:spPr>
              <a:xfrm>
                <a:off x="3297600" y="993600"/>
                <a:ext cx="5592240" cy="26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960" rIns="8496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У “Павлоградській міський територіальний центр соціального обслуговуванн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Box 26"/>
              <p:cNvSpPr/>
              <p:nvPr/>
            </p:nvSpPr>
            <p:spPr>
              <a:xfrm>
                <a:off x="3305880" y="917640"/>
                <a:ext cx="1425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0920" rIns="70920" tIns="35280" bIns="35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TextBox 24"/>
            <p:cNvSpPr/>
            <p:nvPr/>
          </p:nvSpPr>
          <p:spPr>
            <a:xfrm>
              <a:off x="2330280" y="949320"/>
              <a:ext cx="683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442,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52"/>
          <p:cNvGrpSpPr/>
          <p:nvPr/>
        </p:nvGrpSpPr>
        <p:grpSpPr>
          <a:xfrm>
            <a:off x="2089080" y="1332000"/>
            <a:ext cx="6211800" cy="313560"/>
            <a:chOff x="2089080" y="1332000"/>
            <a:chExt cx="6211800" cy="313560"/>
          </a:xfrm>
        </p:grpSpPr>
        <p:grpSp>
          <p:nvGrpSpPr>
            <p:cNvPr id="377" name="Group 28"/>
            <p:cNvGrpSpPr/>
            <p:nvPr/>
          </p:nvGrpSpPr>
          <p:grpSpPr>
            <a:xfrm>
              <a:off x="3128760" y="1332000"/>
              <a:ext cx="5172120" cy="280080"/>
              <a:chOff x="3128760" y="1332000"/>
              <a:chExt cx="5172120" cy="280080"/>
            </a:xfrm>
          </p:grpSpPr>
          <p:sp>
            <p:nvSpPr>
              <p:cNvPr id="378" name="TextBox 31"/>
              <p:cNvSpPr/>
              <p:nvPr/>
            </p:nvSpPr>
            <p:spPr>
              <a:xfrm>
                <a:off x="3128760" y="1344240"/>
                <a:ext cx="5172120" cy="26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960" rIns="8496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0" lang="uk-UA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У “Павлоградський міський центр соціальний служб”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Box 32"/>
              <p:cNvSpPr/>
              <p:nvPr/>
            </p:nvSpPr>
            <p:spPr>
              <a:xfrm>
                <a:off x="3135600" y="1332000"/>
                <a:ext cx="144720" cy="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0920" rIns="70920" tIns="11160" bIns="11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Straight Connector 29"/>
            <p:cNvSpPr/>
            <p:nvPr/>
          </p:nvSpPr>
          <p:spPr>
            <a:xfrm>
              <a:off x="2990520" y="1334880"/>
              <a:ext cx="0" cy="34920"/>
            </a:xfrm>
            <a:prstGeom prst="line">
              <a:avLst/>
            </a:prstGeom>
            <a:ln w="57240">
              <a:solidFill>
                <a:srgbClr val="fc37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Box 30"/>
            <p:cNvSpPr/>
            <p:nvPr/>
          </p:nvSpPr>
          <p:spPr>
            <a:xfrm>
              <a:off x="2089080" y="1337760"/>
              <a:ext cx="9360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72,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组合 53"/>
          <p:cNvGrpSpPr/>
          <p:nvPr/>
        </p:nvGrpSpPr>
        <p:grpSpPr>
          <a:xfrm>
            <a:off x="2328840" y="1620720"/>
            <a:ext cx="6072120" cy="734040"/>
            <a:chOff x="2328840" y="1620720"/>
            <a:chExt cx="6072120" cy="734040"/>
          </a:xfrm>
        </p:grpSpPr>
        <p:grpSp>
          <p:nvGrpSpPr>
            <p:cNvPr id="383" name="Group 34"/>
            <p:cNvGrpSpPr/>
            <p:nvPr/>
          </p:nvGrpSpPr>
          <p:grpSpPr>
            <a:xfrm>
              <a:off x="3290400" y="1620720"/>
              <a:ext cx="5110560" cy="438480"/>
              <a:chOff x="3290400" y="1620720"/>
              <a:chExt cx="5110560" cy="438480"/>
            </a:xfrm>
          </p:grpSpPr>
          <p:sp>
            <p:nvSpPr>
              <p:cNvPr id="384" name="TextBox 37"/>
              <p:cNvSpPr/>
              <p:nvPr/>
            </p:nvSpPr>
            <p:spPr>
              <a:xfrm>
                <a:off x="3290400" y="1620720"/>
                <a:ext cx="5110560" cy="26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960" rIns="8496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У “Центр надання соціальної підтримки дітей “Моя родина”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Box 38"/>
              <p:cNvSpPr/>
              <p:nvPr/>
            </p:nvSpPr>
            <p:spPr>
              <a:xfrm>
                <a:off x="3296880" y="1776600"/>
                <a:ext cx="1425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0920" rIns="70920" tIns="35280" bIns="35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Straight Connector 35"/>
            <p:cNvSpPr/>
            <p:nvPr/>
          </p:nvSpPr>
          <p:spPr>
            <a:xfrm>
              <a:off x="3146400" y="1795320"/>
              <a:ext cx="0" cy="210960"/>
            </a:xfrm>
            <a:prstGeom prst="line">
              <a:avLst/>
            </a:prstGeom>
            <a:ln w="57240">
              <a:solidFill>
                <a:srgbClr val="8f85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36"/>
            <p:cNvSpPr/>
            <p:nvPr/>
          </p:nvSpPr>
          <p:spPr>
            <a:xfrm>
              <a:off x="2328840" y="1620720"/>
              <a:ext cx="6843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448,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54"/>
          <p:cNvGrpSpPr/>
          <p:nvPr/>
        </p:nvGrpSpPr>
        <p:grpSpPr>
          <a:xfrm>
            <a:off x="2314440" y="1981080"/>
            <a:ext cx="6113520" cy="503280"/>
            <a:chOff x="2314440" y="1981080"/>
            <a:chExt cx="6113520" cy="503280"/>
          </a:xfrm>
        </p:grpSpPr>
        <p:grpSp>
          <p:nvGrpSpPr>
            <p:cNvPr id="389" name="Group 40"/>
            <p:cNvGrpSpPr/>
            <p:nvPr/>
          </p:nvGrpSpPr>
          <p:grpSpPr>
            <a:xfrm>
              <a:off x="3256920" y="1981080"/>
              <a:ext cx="5171040" cy="503280"/>
              <a:chOff x="3256920" y="1981080"/>
              <a:chExt cx="5171040" cy="503280"/>
            </a:xfrm>
          </p:grpSpPr>
          <p:sp>
            <p:nvSpPr>
              <p:cNvPr id="390" name="TextBox 43"/>
              <p:cNvSpPr/>
              <p:nvPr/>
            </p:nvSpPr>
            <p:spPr>
              <a:xfrm>
                <a:off x="3256920" y="1981080"/>
                <a:ext cx="5171040" cy="26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960" rIns="8496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У “Центр надання соціально – психологічних послуг”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Box 44"/>
              <p:cNvSpPr/>
              <p:nvPr/>
            </p:nvSpPr>
            <p:spPr>
              <a:xfrm>
                <a:off x="3263400" y="2202120"/>
                <a:ext cx="14256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0920" rIns="70920" tIns="35280" bIns="35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Straight Connector 41"/>
            <p:cNvSpPr/>
            <p:nvPr/>
          </p:nvSpPr>
          <p:spPr>
            <a:xfrm>
              <a:off x="3128760" y="2211120"/>
              <a:ext cx="0" cy="209520"/>
            </a:xfrm>
            <a:prstGeom prst="line">
              <a:avLst/>
            </a:prstGeom>
            <a:ln w="57240">
              <a:solidFill>
                <a:srgbClr val="fc37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Box 42"/>
            <p:cNvSpPr/>
            <p:nvPr/>
          </p:nvSpPr>
          <p:spPr>
            <a:xfrm>
              <a:off x="2314440" y="1981080"/>
              <a:ext cx="679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53"/>
          <p:cNvGrpSpPr/>
          <p:nvPr/>
        </p:nvGrpSpPr>
        <p:grpSpPr>
          <a:xfrm>
            <a:off x="2376360" y="2340000"/>
            <a:ext cx="5988240" cy="788400"/>
            <a:chOff x="2376360" y="2340000"/>
            <a:chExt cx="5988240" cy="788400"/>
          </a:xfrm>
        </p:grpSpPr>
        <p:grpSp>
          <p:nvGrpSpPr>
            <p:cNvPr id="395" name="Group 34"/>
            <p:cNvGrpSpPr/>
            <p:nvPr/>
          </p:nvGrpSpPr>
          <p:grpSpPr>
            <a:xfrm>
              <a:off x="3253320" y="2340000"/>
              <a:ext cx="5111280" cy="788400"/>
              <a:chOff x="3253320" y="2340000"/>
              <a:chExt cx="5111280" cy="788400"/>
            </a:xfrm>
          </p:grpSpPr>
          <p:sp>
            <p:nvSpPr>
              <p:cNvPr id="396" name="TextBox 37"/>
              <p:cNvSpPr/>
              <p:nvPr/>
            </p:nvSpPr>
            <p:spPr>
              <a:xfrm>
                <a:off x="3253320" y="2340000"/>
                <a:ext cx="5111280" cy="26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960" rIns="8496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плата громадських робі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Box 38"/>
              <p:cNvSpPr/>
              <p:nvPr/>
            </p:nvSpPr>
            <p:spPr>
              <a:xfrm>
                <a:off x="3260160" y="2631240"/>
                <a:ext cx="18216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0920" rIns="70920" tIns="35280" bIns="35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r>
                  <a:rPr b="1" lang="uk-UA" sz="1400" spc="-1" strike="noStrike">
                    <a:solidFill>
                      <a:srgbClr val="7f7f7f"/>
                    </a:solidFill>
                    <a:latin typeface="Calibri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Straight Connector 35"/>
            <p:cNvSpPr/>
            <p:nvPr/>
          </p:nvSpPr>
          <p:spPr>
            <a:xfrm>
              <a:off x="3109680" y="2651040"/>
              <a:ext cx="0" cy="210960"/>
            </a:xfrm>
            <a:prstGeom prst="line">
              <a:avLst/>
            </a:prstGeom>
            <a:ln w="57240">
              <a:solidFill>
                <a:srgbClr val="8f85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Box 36"/>
            <p:cNvSpPr/>
            <p:nvPr/>
          </p:nvSpPr>
          <p:spPr>
            <a:xfrm>
              <a:off x="2376360" y="2340000"/>
              <a:ext cx="598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8,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Заголовок 4"/>
          <p:cNvSpPr/>
          <p:nvPr/>
        </p:nvSpPr>
        <p:spPr>
          <a:xfrm>
            <a:off x="1657440" y="42840"/>
            <a:ext cx="61261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Е ЗАБЕЗПЕЧЕНН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місяців 2024 рок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组合 51"/>
          <p:cNvGrpSpPr/>
          <p:nvPr/>
        </p:nvGrpSpPr>
        <p:grpSpPr>
          <a:xfrm>
            <a:off x="433440" y="3662280"/>
            <a:ext cx="8588160" cy="526320"/>
            <a:chOff x="433440" y="3662280"/>
            <a:chExt cx="8588160" cy="526320"/>
          </a:xfrm>
        </p:grpSpPr>
        <p:sp>
          <p:nvSpPr>
            <p:cNvPr id="402" name="Straight Connector 22"/>
            <p:cNvSpPr/>
            <p:nvPr/>
          </p:nvSpPr>
          <p:spPr>
            <a:xfrm>
              <a:off x="1366560" y="3682800"/>
              <a:ext cx="0" cy="210960"/>
            </a:xfrm>
            <a:prstGeom prst="line">
              <a:avLst/>
            </a:prstGeom>
            <a:ln w="57240">
              <a:solidFill>
                <a:srgbClr val="8f85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Group 23"/>
            <p:cNvGrpSpPr/>
            <p:nvPr/>
          </p:nvGrpSpPr>
          <p:grpSpPr>
            <a:xfrm>
              <a:off x="1551600" y="3662280"/>
              <a:ext cx="7470000" cy="526320"/>
              <a:chOff x="1551600" y="3662280"/>
              <a:chExt cx="7470000" cy="526320"/>
            </a:xfrm>
          </p:grpSpPr>
          <p:sp>
            <p:nvSpPr>
              <p:cNvPr id="404" name="TextBox 25"/>
              <p:cNvSpPr/>
              <p:nvPr/>
            </p:nvSpPr>
            <p:spPr>
              <a:xfrm>
                <a:off x="1551600" y="3738240"/>
                <a:ext cx="747000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960" rIns="8496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атеріальна допомога соціально незахищеним верствам  населення 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на вирішення соціально-побутових проблем, лікування, сім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’</a:t>
                </a:r>
                <a:r>
                  <a:rPr b="0" lang="uk-UA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ям загиблих,</a:t>
                </a:r>
                <a:r>
                  <a:rPr b="0" lang="uk-UA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пораненим, 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ощо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Box 26"/>
              <p:cNvSpPr/>
              <p:nvPr/>
            </p:nvSpPr>
            <p:spPr>
              <a:xfrm>
                <a:off x="1562400" y="3662280"/>
                <a:ext cx="1425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0920" rIns="70920" tIns="35280" bIns="35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TextBox 24"/>
            <p:cNvSpPr/>
            <p:nvPr/>
          </p:nvSpPr>
          <p:spPr>
            <a:xfrm>
              <a:off x="433440" y="3693960"/>
              <a:ext cx="782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4256,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52"/>
          <p:cNvGrpSpPr/>
          <p:nvPr/>
        </p:nvGrpSpPr>
        <p:grpSpPr>
          <a:xfrm>
            <a:off x="483120" y="4176720"/>
            <a:ext cx="8276760" cy="526320"/>
            <a:chOff x="483120" y="4176720"/>
            <a:chExt cx="8276760" cy="526320"/>
          </a:xfrm>
        </p:grpSpPr>
        <p:grpSp>
          <p:nvGrpSpPr>
            <p:cNvPr id="408" name="Group 28"/>
            <p:cNvGrpSpPr/>
            <p:nvPr/>
          </p:nvGrpSpPr>
          <p:grpSpPr>
            <a:xfrm>
              <a:off x="1551240" y="4176720"/>
              <a:ext cx="7208640" cy="526320"/>
              <a:chOff x="1551240" y="4176720"/>
              <a:chExt cx="7208640" cy="526320"/>
            </a:xfrm>
          </p:grpSpPr>
          <p:sp>
            <p:nvSpPr>
              <p:cNvPr id="409" name="TextBox 31"/>
              <p:cNvSpPr/>
              <p:nvPr/>
            </p:nvSpPr>
            <p:spPr>
              <a:xfrm>
                <a:off x="1551240" y="4252680"/>
                <a:ext cx="720864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960" rIns="8496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здійснення виплат фізичним особам за надані соціальні послуги громадянам, які не здатні до самообслуговування і  потребують сторонньої допомоги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Box 32"/>
              <p:cNvSpPr/>
              <p:nvPr/>
            </p:nvSpPr>
            <p:spPr>
              <a:xfrm>
                <a:off x="1561320" y="4176720"/>
                <a:ext cx="1425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0920" rIns="70920" tIns="35280" bIns="35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Straight Connector 29"/>
            <p:cNvSpPr/>
            <p:nvPr/>
          </p:nvSpPr>
          <p:spPr>
            <a:xfrm>
              <a:off x="1363680" y="4262400"/>
              <a:ext cx="0" cy="255600"/>
            </a:xfrm>
            <a:prstGeom prst="line">
              <a:avLst/>
            </a:prstGeom>
            <a:ln w="57240">
              <a:solidFill>
                <a:srgbClr val="fc37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Box 30"/>
            <p:cNvSpPr/>
            <p:nvPr/>
          </p:nvSpPr>
          <p:spPr>
            <a:xfrm>
              <a:off x="483120" y="4213080"/>
              <a:ext cx="683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11,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1"/>
          <p:cNvGrpSpPr/>
          <p:nvPr/>
        </p:nvGrpSpPr>
        <p:grpSpPr>
          <a:xfrm>
            <a:off x="184320" y="4689360"/>
            <a:ext cx="8735760" cy="316080"/>
            <a:chOff x="184320" y="4689360"/>
            <a:chExt cx="8735760" cy="316080"/>
          </a:xfrm>
        </p:grpSpPr>
        <p:sp>
          <p:nvSpPr>
            <p:cNvPr id="414" name="Straight Connector 22"/>
            <p:cNvSpPr/>
            <p:nvPr/>
          </p:nvSpPr>
          <p:spPr>
            <a:xfrm>
              <a:off x="1368360" y="4716360"/>
              <a:ext cx="0" cy="289080"/>
            </a:xfrm>
            <a:prstGeom prst="line">
              <a:avLst/>
            </a:prstGeom>
            <a:ln w="57240">
              <a:solidFill>
                <a:srgbClr val="8f85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Box 25"/>
            <p:cNvSpPr/>
            <p:nvPr/>
          </p:nvSpPr>
          <p:spPr>
            <a:xfrm>
              <a:off x="1449360" y="4732200"/>
              <a:ext cx="747072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uk-UA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інші пільги населенн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Box 24"/>
            <p:cNvSpPr/>
            <p:nvPr/>
          </p:nvSpPr>
          <p:spPr>
            <a:xfrm>
              <a:off x="184320" y="4689360"/>
              <a:ext cx="958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693,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组合 52"/>
          <p:cNvGrpSpPr/>
          <p:nvPr/>
        </p:nvGrpSpPr>
        <p:grpSpPr>
          <a:xfrm>
            <a:off x="484560" y="5030640"/>
            <a:ext cx="8665920" cy="526320"/>
            <a:chOff x="484560" y="5030640"/>
            <a:chExt cx="8665920" cy="526320"/>
          </a:xfrm>
        </p:grpSpPr>
        <p:grpSp>
          <p:nvGrpSpPr>
            <p:cNvPr id="418" name="Group 28"/>
            <p:cNvGrpSpPr/>
            <p:nvPr/>
          </p:nvGrpSpPr>
          <p:grpSpPr>
            <a:xfrm>
              <a:off x="1578960" y="5030640"/>
              <a:ext cx="7571520" cy="526320"/>
              <a:chOff x="1578960" y="5030640"/>
              <a:chExt cx="7571520" cy="526320"/>
            </a:xfrm>
          </p:grpSpPr>
          <p:sp>
            <p:nvSpPr>
              <p:cNvPr id="419" name="TextBox 31"/>
              <p:cNvSpPr/>
              <p:nvPr/>
            </p:nvSpPr>
            <p:spPr>
              <a:xfrm>
                <a:off x="1578960" y="5106600"/>
                <a:ext cx="757152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960" rIns="8496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забезпечення належних умов проживання евакуйованого населення із зони бойових дій у зв’язку з військовою агресією Російської Федераці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Box 32"/>
              <p:cNvSpPr/>
              <p:nvPr/>
            </p:nvSpPr>
            <p:spPr>
              <a:xfrm>
                <a:off x="1588320" y="5030640"/>
                <a:ext cx="1425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0920" rIns="70920" tIns="35280" bIns="35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Straight Connector 29"/>
            <p:cNvSpPr/>
            <p:nvPr/>
          </p:nvSpPr>
          <p:spPr>
            <a:xfrm>
              <a:off x="1363680" y="5202000"/>
              <a:ext cx="0" cy="257040"/>
            </a:xfrm>
            <a:prstGeom prst="line">
              <a:avLst/>
            </a:prstGeom>
            <a:ln w="57240">
              <a:solidFill>
                <a:srgbClr val="fc37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Box 30"/>
            <p:cNvSpPr/>
            <p:nvPr/>
          </p:nvSpPr>
          <p:spPr>
            <a:xfrm>
              <a:off x="484560" y="5067000"/>
              <a:ext cx="683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82,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51"/>
          <p:cNvGrpSpPr/>
          <p:nvPr/>
        </p:nvGrpSpPr>
        <p:grpSpPr>
          <a:xfrm>
            <a:off x="1000080" y="5545080"/>
            <a:ext cx="8042400" cy="344520"/>
            <a:chOff x="1000080" y="5545080"/>
            <a:chExt cx="8042400" cy="344520"/>
          </a:xfrm>
        </p:grpSpPr>
        <p:grpSp>
          <p:nvGrpSpPr>
            <p:cNvPr id="424" name="Group 23"/>
            <p:cNvGrpSpPr/>
            <p:nvPr/>
          </p:nvGrpSpPr>
          <p:grpSpPr>
            <a:xfrm>
              <a:off x="1573920" y="5545080"/>
              <a:ext cx="7468560" cy="344520"/>
              <a:chOff x="1573920" y="5545080"/>
              <a:chExt cx="7468560" cy="344520"/>
            </a:xfrm>
          </p:grpSpPr>
          <p:sp>
            <p:nvSpPr>
              <p:cNvPr id="425" name="TextBox 25"/>
              <p:cNvSpPr/>
              <p:nvPr/>
            </p:nvSpPr>
            <p:spPr>
              <a:xfrm>
                <a:off x="1573920" y="5621040"/>
                <a:ext cx="7468560" cy="26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960" rIns="8496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Box 26"/>
              <p:cNvSpPr/>
              <p:nvPr/>
            </p:nvSpPr>
            <p:spPr>
              <a:xfrm>
                <a:off x="1584720" y="5545080"/>
                <a:ext cx="1425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0920" rIns="70920" tIns="35280" bIns="35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TextBox 24"/>
            <p:cNvSpPr/>
            <p:nvPr/>
          </p:nvSpPr>
          <p:spPr>
            <a:xfrm>
              <a:off x="1000080" y="5576760"/>
              <a:ext cx="19044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Rectangle 92"/>
          <p:cNvSpPr/>
          <p:nvPr/>
        </p:nvSpPr>
        <p:spPr>
          <a:xfrm>
            <a:off x="947160" y="3317760"/>
            <a:ext cx="7946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а «Соціальний захист окремих категорій населенняна 2022-2024 роки» 54443,8 тис. г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Google Shape;101;p25" descr=""/>
          <p:cNvPicPr/>
          <p:nvPr/>
        </p:nvPicPr>
        <p:blipFill>
          <a:blip r:embed="rId3"/>
          <a:srcRect l="0" t="34607" r="0" b="0"/>
          <a:stretch/>
        </p:blipFill>
        <p:spPr>
          <a:xfrm>
            <a:off x="0" y="0"/>
            <a:ext cx="773280" cy="44928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89"/>
          <p:cNvSpPr/>
          <p:nvPr/>
        </p:nvSpPr>
        <p:spPr>
          <a:xfrm>
            <a:off x="9015840" y="0"/>
            <a:ext cx="28512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95"/>
          <p:cNvSpPr/>
          <p:nvPr/>
        </p:nvSpPr>
        <p:spPr>
          <a:xfrm>
            <a:off x="2776320" y="576360"/>
            <a:ext cx="3558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ий фонд всього –  73790,6 тис.гр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85"/>
          <p:cNvSpPr/>
          <p:nvPr/>
        </p:nvSpPr>
        <p:spPr>
          <a:xfrm>
            <a:off x="2305080" y="26290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86"/>
          <p:cNvSpPr/>
          <p:nvPr/>
        </p:nvSpPr>
        <p:spPr>
          <a:xfrm>
            <a:off x="2305080" y="28605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9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87"/>
          <p:cNvSpPr/>
          <p:nvPr/>
        </p:nvSpPr>
        <p:spPr>
          <a:xfrm>
            <a:off x="3242160" y="2629080"/>
            <a:ext cx="221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ховання безрідних громадя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88"/>
          <p:cNvSpPr/>
          <p:nvPr/>
        </p:nvSpPr>
        <p:spPr>
          <a:xfrm>
            <a:off x="2891880" y="2860560"/>
            <a:ext cx="186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доровлення ді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traight Connector 41"/>
          <p:cNvSpPr/>
          <p:nvPr/>
        </p:nvSpPr>
        <p:spPr>
          <a:xfrm>
            <a:off x="3129120" y="1479600"/>
            <a:ext cx="1440" cy="190440"/>
          </a:xfrm>
          <a:prstGeom prst="line">
            <a:avLst/>
          </a:prstGeom>
          <a:ln w="57240">
            <a:solidFill>
              <a:srgbClr val="fc3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4" descr="1669745763_1-pibig-info-p-goluboi-fon-dlya-prezentatsii-krasivo-1 (1)"/>
          <p:cNvPicPr/>
          <p:nvPr/>
        </p:nvPicPr>
        <p:blipFill>
          <a:blip r:embed="rId1"/>
          <a:stretch/>
        </p:blipFill>
        <p:spPr>
          <a:xfrm>
            <a:off x="0" y="0"/>
            <a:ext cx="9361440" cy="612144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16"/>
          <p:cNvSpPr/>
          <p:nvPr/>
        </p:nvSpPr>
        <p:spPr>
          <a:xfrm>
            <a:off x="111240" y="3989520"/>
            <a:ext cx="1325520" cy="500040"/>
          </a:xfrm>
          <a:prstGeom prst="downArrowCallout">
            <a:avLst>
              <a:gd name="adj1" fmla="val 15268"/>
              <a:gd name="adj2" fmla="val 24324"/>
              <a:gd name="adj3" fmla="val 20745"/>
              <a:gd name="adj4" fmla="val 81718"/>
            </a:avLst>
          </a:prstGeom>
          <a:gradFill rotWithShape="0">
            <a:gsLst>
              <a:gs pos="0">
                <a:srgbClr val="6699ff">
                  <a:alpha val="17254"/>
                </a:srgbClr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400" spc="-1" strike="noStrike">
                <a:solidFill>
                  <a:srgbClr val="04617b"/>
                </a:solidFill>
                <a:latin typeface="Times New Roman"/>
                <a:ea typeface="宋体"/>
              </a:rPr>
              <a:t>406,3 </a:t>
            </a:r>
            <a:r>
              <a:rPr b="1" lang="ru-RU" sz="1400" spc="-1" strike="noStrike">
                <a:solidFill>
                  <a:srgbClr val="04617b"/>
                </a:solidFill>
                <a:latin typeface="Times New Roman"/>
                <a:ea typeface="宋体"/>
              </a:rPr>
              <a:t>тис. г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6"/>
          <p:cNvSpPr/>
          <p:nvPr/>
        </p:nvSpPr>
        <p:spPr>
          <a:xfrm>
            <a:off x="111240" y="2917800"/>
            <a:ext cx="1325520" cy="428760"/>
          </a:xfrm>
          <a:prstGeom prst="downArrowCallout">
            <a:avLst>
              <a:gd name="adj1" fmla="val 12281"/>
              <a:gd name="adj2" fmla="val 19494"/>
              <a:gd name="adj3" fmla="val 21745"/>
              <a:gd name="adj4" fmla="val 81718"/>
            </a:avLst>
          </a:prstGeom>
          <a:gradFill rotWithShape="0">
            <a:gsLst>
              <a:gs pos="0">
                <a:srgbClr val="ffcc00">
                  <a:alpha val="0"/>
                </a:srgbClr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200" spc="-1" strike="noStrike">
                <a:solidFill>
                  <a:srgbClr val="04617b"/>
                </a:solidFill>
                <a:latin typeface="Times New Roman"/>
                <a:ea typeface="宋体"/>
              </a:rPr>
              <a:t>837,7  </a:t>
            </a:r>
            <a:r>
              <a:rPr b="1" lang="ru-RU" sz="1400" spc="-1" strike="noStrike">
                <a:solidFill>
                  <a:srgbClr val="04617b"/>
                </a:solidFill>
                <a:latin typeface="Times New Roman"/>
                <a:ea typeface="宋体"/>
              </a:rPr>
              <a:t>тис. г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6"/>
          <p:cNvSpPr/>
          <p:nvPr/>
        </p:nvSpPr>
        <p:spPr>
          <a:xfrm>
            <a:off x="111240" y="1689120"/>
            <a:ext cx="1325520" cy="299880"/>
          </a:xfrm>
          <a:prstGeom prst="downArrowCallout">
            <a:avLst>
              <a:gd name="adj1" fmla="val 11993"/>
              <a:gd name="adj2" fmla="val 19093"/>
              <a:gd name="adj3" fmla="val 20769"/>
              <a:gd name="adj4" fmla="val 81718"/>
            </a:avLst>
          </a:prstGeom>
          <a:gradFill rotWithShape="0">
            <a:gsLst>
              <a:gs pos="0">
                <a:srgbClr val="6699ff">
                  <a:alpha val="29019"/>
                </a:srgbClr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 022,7 </a:t>
            </a:r>
            <a:r>
              <a:rPr b="1" lang="ru-RU" sz="1400" spc="-1" strike="noStrike">
                <a:solidFill>
                  <a:srgbClr val="04617b"/>
                </a:solidFill>
                <a:latin typeface="Times New Roman"/>
                <a:ea typeface="宋体"/>
              </a:rPr>
              <a:t>тис. гр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1541520" y="1689120"/>
            <a:ext cx="7527960" cy="299880"/>
          </a:xfrm>
          <a:prstGeom prst="rect">
            <a:avLst/>
          </a:prstGeom>
          <a:gradFill rotWithShape="0">
            <a:gsLst>
              <a:gs pos="0">
                <a:srgbClr val="6699ff">
                  <a:alpha val="46274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0"/>
          <p:cNvSpPr/>
          <p:nvPr/>
        </p:nvSpPr>
        <p:spPr>
          <a:xfrm>
            <a:off x="1541520" y="2917800"/>
            <a:ext cx="7527960" cy="357120"/>
          </a:xfrm>
          <a:prstGeom prst="rect">
            <a:avLst/>
          </a:prstGeom>
          <a:gradFill rotWithShape="0">
            <a:gsLst>
              <a:gs pos="0">
                <a:srgbClr val="6699ff">
                  <a:alpha val="46274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1541520" y="3917880"/>
            <a:ext cx="7527960" cy="571680"/>
          </a:xfrm>
          <a:prstGeom prst="rect">
            <a:avLst/>
          </a:prstGeom>
          <a:gradFill rotWithShape="0">
            <a:gsLst>
              <a:gs pos="0">
                <a:srgbClr val="6699ff">
                  <a:alpha val="46274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4"/>
          <p:cNvSpPr/>
          <p:nvPr/>
        </p:nvSpPr>
        <p:spPr>
          <a:xfrm flipV="1" rot="10800000">
            <a:off x="1539360" y="1720440"/>
            <a:ext cx="782172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ювання педпрацівників за особливі досягнення в навчанні та вихованні ді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4"/>
          <p:cNvSpPr/>
          <p:nvPr/>
        </p:nvSpPr>
        <p:spPr>
          <a:xfrm>
            <a:off x="1512720" y="3924360"/>
            <a:ext cx="762480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інги з вивчення української та англійської мов для дорослих та дітей дошкільного віку разом з бать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Google Shape;101;p25" descr=""/>
          <p:cNvPicPr/>
          <p:nvPr/>
        </p:nvPicPr>
        <p:blipFill>
          <a:blip r:embed="rId2"/>
          <a:srcRect l="0" t="34614" r="0" b="0"/>
          <a:stretch/>
        </p:blipFill>
        <p:spPr>
          <a:xfrm>
            <a:off x="0" y="0"/>
            <a:ext cx="846000" cy="679320"/>
          </a:xfrm>
          <a:prstGeom prst="rect">
            <a:avLst/>
          </a:prstGeom>
          <a:ln w="0">
            <a:noFill/>
          </a:ln>
        </p:spPr>
      </p:pic>
      <p:sp>
        <p:nvSpPr>
          <p:cNvPr id="447" name="Заголовок 4"/>
          <p:cNvSpPr/>
          <p:nvPr/>
        </p:nvSpPr>
        <p:spPr>
          <a:xfrm>
            <a:off x="2395440" y="104760"/>
            <a:ext cx="44229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6"/>
          <p:cNvSpPr/>
          <p:nvPr/>
        </p:nvSpPr>
        <p:spPr>
          <a:xfrm>
            <a:off x="920880" y="0"/>
            <a:ext cx="8035920" cy="1616040"/>
          </a:xfrm>
          <a:prstGeom prst="downArrowCallout">
            <a:avLst>
              <a:gd name="adj1" fmla="val -89699"/>
              <a:gd name="adj2" fmla="val 140475"/>
              <a:gd name="adj3" fmla="val 15347"/>
              <a:gd name="adj4" fmla="val 81718"/>
            </a:avLst>
          </a:prstGeom>
          <a:blipFill rotWithShape="0">
            <a:blip r:embed="rId3">
              <a:alphaModFix amt="2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9"/>
          <p:cNvSpPr/>
          <p:nvPr/>
        </p:nvSpPr>
        <p:spPr>
          <a:xfrm>
            <a:off x="4532400" y="617400"/>
            <a:ext cx="1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0"/>
          <p:cNvSpPr/>
          <p:nvPr/>
        </p:nvSpPr>
        <p:spPr>
          <a:xfrm>
            <a:off x="404640" y="0"/>
            <a:ext cx="936180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І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місяців 2024 рок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ЬОГО по галузі – 340 083 тис. гр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.ч. на програму «Розвиток освіти в м. Павлограді на 2024-2026 роки» – 36 830,7 тис. г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54"/>
          <p:cNvSpPr/>
          <p:nvPr/>
        </p:nvSpPr>
        <p:spPr>
          <a:xfrm>
            <a:off x="8881560" y="0"/>
            <a:ext cx="397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4"/>
          <p:cNvSpPr/>
          <p:nvPr/>
        </p:nvSpPr>
        <p:spPr>
          <a:xfrm flipV="1" rot="10800000">
            <a:off x="1512720" y="2915280"/>
            <a:ext cx="738216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я</a:t>
            </a:r>
            <a:r>
              <a:rPr b="1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везення дітей до місць навчанн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6"/>
          <p:cNvSpPr/>
          <p:nvPr/>
        </p:nvSpPr>
        <p:spPr>
          <a:xfrm>
            <a:off x="146160" y="4560840"/>
            <a:ext cx="1315800" cy="500040"/>
          </a:xfrm>
          <a:prstGeom prst="downArrowCallout">
            <a:avLst>
              <a:gd name="adj1" fmla="val 16033"/>
              <a:gd name="adj2" fmla="val 25546"/>
              <a:gd name="adj3" fmla="val 20745"/>
              <a:gd name="adj4" fmla="val 81718"/>
            </a:avLst>
          </a:prstGeom>
          <a:gradFill rotWithShape="0">
            <a:gsLst>
              <a:gs pos="0">
                <a:srgbClr val="6699ff">
                  <a:alpha val="17254"/>
                </a:srgbClr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400" spc="-1" strike="noStrike">
                <a:solidFill>
                  <a:srgbClr val="04617b"/>
                </a:solidFill>
                <a:latin typeface="Times New Roman"/>
                <a:ea typeface="宋体"/>
              </a:rPr>
              <a:t>1 271,7 </a:t>
            </a:r>
            <a:r>
              <a:rPr b="1" lang="ru-RU" sz="1400" spc="-1" strike="noStrike">
                <a:solidFill>
                  <a:srgbClr val="04617b"/>
                </a:solidFill>
                <a:latin typeface="Times New Roman"/>
                <a:ea typeface="宋体"/>
              </a:rPr>
              <a:t>тис. г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0"/>
          <p:cNvSpPr/>
          <p:nvPr/>
        </p:nvSpPr>
        <p:spPr>
          <a:xfrm>
            <a:off x="1535040" y="4560840"/>
            <a:ext cx="7559640" cy="428760"/>
          </a:xfrm>
          <a:prstGeom prst="rect">
            <a:avLst/>
          </a:prstGeom>
          <a:gradFill rotWithShape="0">
            <a:gsLst>
              <a:gs pos="0">
                <a:srgbClr val="6699ff">
                  <a:alpha val="46274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ження</a:t>
            </a:r>
            <a:r>
              <a:rPr b="1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філактичних медичних оглядів працівниками закладів освіт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6"/>
          <p:cNvSpPr/>
          <p:nvPr/>
        </p:nvSpPr>
        <p:spPr>
          <a:xfrm>
            <a:off x="111240" y="2060640"/>
            <a:ext cx="1325520" cy="285840"/>
          </a:xfrm>
          <a:prstGeom prst="downArrowCallout">
            <a:avLst>
              <a:gd name="adj1" fmla="val 15030"/>
              <a:gd name="adj2" fmla="val 23916"/>
              <a:gd name="adj3" fmla="val 20769"/>
              <a:gd name="adj4" fmla="val 81718"/>
            </a:avLst>
          </a:prstGeom>
          <a:gradFill rotWithShape="0">
            <a:gsLst>
              <a:gs pos="0">
                <a:srgbClr val="6699ff">
                  <a:alpha val="29019"/>
                </a:srgbClr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3 813,7 </a:t>
            </a:r>
            <a:r>
              <a:rPr b="1" lang="ru-RU" sz="1400" spc="-1" strike="noStrike">
                <a:solidFill>
                  <a:srgbClr val="04617b"/>
                </a:solidFill>
                <a:latin typeface="Times New Roman"/>
                <a:ea typeface="宋体"/>
              </a:rPr>
              <a:t>тис. г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0"/>
          <p:cNvSpPr/>
          <p:nvPr/>
        </p:nvSpPr>
        <p:spPr>
          <a:xfrm>
            <a:off x="1536840" y="2060640"/>
            <a:ext cx="7527960" cy="285840"/>
          </a:xfrm>
          <a:prstGeom prst="rect">
            <a:avLst/>
          </a:prstGeom>
          <a:gradFill rotWithShape="0">
            <a:gsLst>
              <a:gs pos="0">
                <a:srgbClr val="6699ff">
                  <a:alpha val="46274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31"/>
          <p:cNvSpPr/>
          <p:nvPr/>
        </p:nvSpPr>
        <p:spPr>
          <a:xfrm>
            <a:off x="1581120" y="2060640"/>
            <a:ext cx="743112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езпечення</a:t>
            </a:r>
            <a:r>
              <a:rPr b="1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чуванням  дітей у закладах освіт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 flipV="1">
            <a:off x="0" y="5865840"/>
            <a:ext cx="1878120" cy="139680"/>
          </a:xfrm>
          <a:prstGeom prst="rect">
            <a:avLst/>
          </a:prstGeom>
          <a:solidFill>
            <a:srgbClr val="3366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 rot="10800000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7" descr="7077718"/>
          <p:cNvPicPr/>
          <p:nvPr/>
        </p:nvPicPr>
        <p:blipFill>
          <a:blip r:embed="rId4"/>
          <a:stretch/>
        </p:blipFill>
        <p:spPr>
          <a:xfrm>
            <a:off x="1974960" y="5672160"/>
            <a:ext cx="515880" cy="44928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5"/>
          <p:cNvSpPr/>
          <p:nvPr/>
        </p:nvSpPr>
        <p:spPr>
          <a:xfrm>
            <a:off x="2616120" y="5781600"/>
            <a:ext cx="6745320" cy="168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6"/>
          <p:cNvSpPr/>
          <p:nvPr/>
        </p:nvSpPr>
        <p:spPr>
          <a:xfrm>
            <a:off x="108000" y="3417840"/>
            <a:ext cx="1285920" cy="500040"/>
          </a:xfrm>
          <a:prstGeom prst="downArrowCallout">
            <a:avLst>
              <a:gd name="adj1" fmla="val 12288"/>
              <a:gd name="adj2" fmla="val 19513"/>
              <a:gd name="adj3" fmla="val 21745"/>
              <a:gd name="adj4" fmla="val 81718"/>
            </a:avLst>
          </a:prstGeom>
          <a:gradFill rotWithShape="0">
            <a:gsLst>
              <a:gs pos="0">
                <a:srgbClr val="ffcc00">
                  <a:alpha val="0"/>
                </a:srgbClr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200" spc="-1" strike="noStrike">
                <a:solidFill>
                  <a:srgbClr val="04617b"/>
                </a:solidFill>
                <a:latin typeface="Times New Roman"/>
                <a:ea typeface="宋体"/>
              </a:rPr>
              <a:t>959,5  </a:t>
            </a:r>
            <a:r>
              <a:rPr b="1" lang="ru-RU" sz="1400" spc="-1" strike="noStrike">
                <a:solidFill>
                  <a:srgbClr val="04617b"/>
                </a:solidFill>
                <a:latin typeface="Times New Roman"/>
                <a:ea typeface="宋体"/>
              </a:rPr>
              <a:t>тис. г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0"/>
          <p:cNvSpPr/>
          <p:nvPr/>
        </p:nvSpPr>
        <p:spPr>
          <a:xfrm>
            <a:off x="1536840" y="3346560"/>
            <a:ext cx="7502400" cy="500040"/>
          </a:xfrm>
          <a:prstGeom prst="rect">
            <a:avLst/>
          </a:prstGeom>
          <a:gradFill rotWithShape="0">
            <a:gsLst>
              <a:gs pos="0">
                <a:srgbClr val="6699ff">
                  <a:alpha val="46274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Організація оздоровлення та відпочинку ді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0"/>
          <p:cNvSpPr/>
          <p:nvPr/>
        </p:nvSpPr>
        <p:spPr>
          <a:xfrm>
            <a:off x="1536840" y="5132520"/>
            <a:ext cx="7527960" cy="428400"/>
          </a:xfrm>
          <a:prstGeom prst="rect">
            <a:avLst/>
          </a:prstGeom>
          <a:gradFill rotWithShape="0">
            <a:gsLst>
              <a:gs pos="0">
                <a:srgbClr val="6699ff">
                  <a:alpha val="46274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Оновлення матеріально-технічної бази закладів осві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6"/>
          <p:cNvSpPr/>
          <p:nvPr/>
        </p:nvSpPr>
        <p:spPr>
          <a:xfrm>
            <a:off x="108000" y="5132520"/>
            <a:ext cx="1357200" cy="571320"/>
          </a:xfrm>
          <a:prstGeom prst="downArrowCallout">
            <a:avLst>
              <a:gd name="adj1" fmla="val 16058"/>
              <a:gd name="adj2" fmla="val 25570"/>
              <a:gd name="adj3" fmla="val 20745"/>
              <a:gd name="adj4" fmla="val 81718"/>
            </a:avLst>
          </a:prstGeom>
          <a:gradFill rotWithShape="0">
            <a:gsLst>
              <a:gs pos="0">
                <a:srgbClr val="6699ff">
                  <a:alpha val="17254"/>
                </a:srgbClr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400" spc="-1" strike="noStrike">
                <a:solidFill>
                  <a:srgbClr val="04617b"/>
                </a:solidFill>
                <a:latin typeface="Times New Roman"/>
                <a:ea typeface="宋体"/>
              </a:rPr>
              <a:t>28 056,3 </a:t>
            </a:r>
            <a:r>
              <a:rPr b="1" lang="ru-RU" sz="1400" spc="-1" strike="noStrike">
                <a:solidFill>
                  <a:srgbClr val="04617b"/>
                </a:solidFill>
                <a:latin typeface="Times New Roman"/>
                <a:ea typeface="宋体"/>
              </a:rPr>
              <a:t>тис. г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31"/>
          <p:cNvSpPr/>
          <p:nvPr/>
        </p:nvSpPr>
        <p:spPr>
          <a:xfrm>
            <a:off x="465120" y="5418000"/>
            <a:ext cx="2142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0"/>
          <p:cNvSpPr/>
          <p:nvPr/>
        </p:nvSpPr>
        <p:spPr>
          <a:xfrm>
            <a:off x="1536840" y="2417760"/>
            <a:ext cx="7527960" cy="428760"/>
          </a:xfrm>
          <a:prstGeom prst="rect">
            <a:avLst/>
          </a:prstGeom>
          <a:gradFill rotWithShape="0">
            <a:gsLst>
              <a:gs pos="0">
                <a:srgbClr val="6699ff">
                  <a:alpha val="46274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ія на придбання шкільної та спортивної форми дітям-сиротам та позбавлен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тьківського піклуван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6"/>
          <p:cNvSpPr/>
          <p:nvPr/>
        </p:nvSpPr>
        <p:spPr>
          <a:xfrm>
            <a:off x="108000" y="2417760"/>
            <a:ext cx="1357200" cy="428760"/>
          </a:xfrm>
          <a:prstGeom prst="downArrowCallout">
            <a:avLst>
              <a:gd name="adj1" fmla="val 12282"/>
              <a:gd name="adj2" fmla="val 19491"/>
              <a:gd name="adj3" fmla="val 21745"/>
              <a:gd name="adj4" fmla="val 81718"/>
            </a:avLst>
          </a:prstGeom>
          <a:gradFill rotWithShape="0">
            <a:gsLst>
              <a:gs pos="0">
                <a:srgbClr val="ffcc00">
                  <a:alpha val="0"/>
                </a:srgbClr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200" spc="-1" strike="noStrike">
                <a:solidFill>
                  <a:srgbClr val="04617b"/>
                </a:solidFill>
                <a:latin typeface="Times New Roman"/>
                <a:ea typeface="宋体"/>
              </a:rPr>
              <a:t>462,8  </a:t>
            </a:r>
            <a:r>
              <a:rPr b="1" lang="ru-RU" sz="1400" spc="-1" strike="noStrike">
                <a:solidFill>
                  <a:srgbClr val="04617b"/>
                </a:solidFill>
                <a:latin typeface="Times New Roman"/>
                <a:ea typeface="宋体"/>
              </a:rPr>
              <a:t>тис. г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4" descr="1669745763_1-pibig-info-p-goluboi-fon-dlya-prezentatsii-krasivo-1 (1)"/>
          <p:cNvPicPr/>
          <p:nvPr/>
        </p:nvPicPr>
        <p:blipFill>
          <a:blip r:embed="rId1"/>
          <a:stretch/>
        </p:blipFill>
        <p:spPr>
          <a:xfrm>
            <a:off x="0" y="0"/>
            <a:ext cx="9361440" cy="612144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5"/>
          <p:cNvSpPr/>
          <p:nvPr/>
        </p:nvSpPr>
        <p:spPr>
          <a:xfrm>
            <a:off x="2616120" y="5781600"/>
            <a:ext cx="6745320" cy="17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0" y="5781600"/>
            <a:ext cx="1878120" cy="173160"/>
          </a:xfrm>
          <a:prstGeom prst="rect">
            <a:avLst/>
          </a:prstGeom>
          <a:solidFill>
            <a:srgbClr val="3366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7" descr="7077718"/>
          <p:cNvPicPr/>
          <p:nvPr/>
        </p:nvPicPr>
        <p:blipFill>
          <a:blip r:embed="rId2"/>
          <a:stretch/>
        </p:blipFill>
        <p:spPr>
          <a:xfrm>
            <a:off x="1954080" y="5607000"/>
            <a:ext cx="588960" cy="514440"/>
          </a:xfrm>
          <a:prstGeom prst="rect">
            <a:avLst/>
          </a:prstGeom>
          <a:ln w="0">
            <a:noFill/>
          </a:ln>
        </p:spPr>
      </p:pic>
      <p:sp>
        <p:nvSpPr>
          <p:cNvPr id="472" name="Заголовок 4"/>
          <p:cNvSpPr/>
          <p:nvPr/>
        </p:nvSpPr>
        <p:spPr>
          <a:xfrm>
            <a:off x="2178000" y="231840"/>
            <a:ext cx="5794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РОНА ЗДОРОВ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місяців 2024 рок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Google Shape;101;p25" descr=""/>
          <p:cNvPicPr/>
          <p:nvPr/>
        </p:nvPicPr>
        <p:blipFill>
          <a:blip r:embed="rId3"/>
          <a:srcRect l="0" t="34590" r="0" b="0"/>
          <a:stretch/>
        </p:blipFill>
        <p:spPr>
          <a:xfrm>
            <a:off x="0" y="0"/>
            <a:ext cx="1297080" cy="754200"/>
          </a:xfrm>
          <a:prstGeom prst="rect">
            <a:avLst/>
          </a:prstGeom>
          <a:ln w="0">
            <a:noFill/>
          </a:ln>
        </p:spPr>
      </p:pic>
      <p:grpSp>
        <p:nvGrpSpPr>
          <p:cNvPr id="474" name="Group 69"/>
          <p:cNvGrpSpPr/>
          <p:nvPr/>
        </p:nvGrpSpPr>
        <p:grpSpPr>
          <a:xfrm>
            <a:off x="3797280" y="4602240"/>
            <a:ext cx="1177560" cy="985680"/>
            <a:chOff x="3797280" y="4602240"/>
            <a:chExt cx="1177560" cy="985680"/>
          </a:xfrm>
        </p:grpSpPr>
        <p:sp>
          <p:nvSpPr>
            <p:cNvPr id="475" name="Oval 70"/>
            <p:cNvSpPr/>
            <p:nvPr/>
          </p:nvSpPr>
          <p:spPr>
            <a:xfrm>
              <a:off x="3797280" y="4602240"/>
              <a:ext cx="1177560" cy="9129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Group 71"/>
            <p:cNvGrpSpPr/>
            <p:nvPr/>
          </p:nvGrpSpPr>
          <p:grpSpPr>
            <a:xfrm>
              <a:off x="3832920" y="4630680"/>
              <a:ext cx="1109160" cy="927360"/>
              <a:chOff x="3832920" y="4630680"/>
              <a:chExt cx="1109160" cy="927360"/>
            </a:xfrm>
          </p:grpSpPr>
          <p:pic>
            <p:nvPicPr>
              <p:cNvPr id="477" name="Picture 72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3838680" y="4700880"/>
                <a:ext cx="1101960" cy="85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Oval 73"/>
              <p:cNvSpPr/>
              <p:nvPr/>
            </p:nvSpPr>
            <p:spPr>
              <a:xfrm>
                <a:off x="3832920" y="4630680"/>
                <a:ext cx="1109160" cy="897480"/>
              </a:xfrm>
              <a:prstGeom prst="ellipse">
                <a:avLst/>
              </a:prstGeom>
              <a:solidFill>
                <a:srgbClr val="0f6fc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320" rIns="9432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9" name="Picture 74" descr="light_shadow1"/>
              <p:cNvPicPr/>
              <p:nvPr/>
            </p:nvPicPr>
            <p:blipFill>
              <a:blip r:embed="rId5"/>
              <a:srcRect l="0" t="14273" r="0" b="0"/>
              <a:stretch/>
            </p:blipFill>
            <p:spPr>
              <a:xfrm>
                <a:off x="3965040" y="4700880"/>
                <a:ext cx="812520" cy="536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80" name="Group 75"/>
              <p:cNvGrpSpPr/>
              <p:nvPr/>
            </p:nvGrpSpPr>
            <p:grpSpPr>
              <a:xfrm>
                <a:off x="4286520" y="4974120"/>
                <a:ext cx="642960" cy="570240"/>
                <a:chOff x="4286520" y="4974120"/>
                <a:chExt cx="642960" cy="570240"/>
              </a:xfrm>
            </p:grpSpPr>
            <p:grpSp>
              <p:nvGrpSpPr>
                <p:cNvPr id="481" name="Group 76"/>
                <p:cNvGrpSpPr/>
                <p:nvPr/>
              </p:nvGrpSpPr>
              <p:grpSpPr>
                <a:xfrm>
                  <a:off x="4431960" y="4974120"/>
                  <a:ext cx="497520" cy="566640"/>
                  <a:chOff x="4431960" y="4974120"/>
                  <a:chExt cx="497520" cy="566640"/>
                </a:xfrm>
              </p:grpSpPr>
              <p:sp>
                <p:nvSpPr>
                  <p:cNvPr id="482" name="AutoShape 77"/>
                  <p:cNvSpPr/>
                  <p:nvPr/>
                </p:nvSpPr>
                <p:spPr>
                  <a:xfrm flipH="1" flipV="1" rot="1528800">
                    <a:off x="4692600" y="4982760"/>
                    <a:ext cx="14400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4320" rIns="94320" tIns="47160" bIns="4716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44640"/>
                        <a:tab algn="l" pos="1889280"/>
                        <a:tab algn="l" pos="2833560"/>
                        <a:tab algn="l" pos="3778200"/>
                        <a:tab algn="l" pos="4722840"/>
                        <a:tab algn="l" pos="5667480"/>
                        <a:tab algn="l" pos="6611760"/>
                        <a:tab algn="l" pos="7556400"/>
                        <a:tab algn="l" pos="8501040"/>
                        <a:tab algn="l" pos="9445680"/>
                        <a:tab algn="l" pos="1039032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AutoShape 78"/>
                  <p:cNvSpPr/>
                  <p:nvPr/>
                </p:nvSpPr>
                <p:spPr>
                  <a:xfrm flipH="1" flipV="1" rot="2344200">
                    <a:off x="4657320" y="5050080"/>
                    <a:ext cx="14400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4320" rIns="94320" tIns="47160" bIns="4716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44640"/>
                        <a:tab algn="l" pos="1889280"/>
                        <a:tab algn="l" pos="2833560"/>
                        <a:tab algn="l" pos="3778200"/>
                        <a:tab algn="l" pos="4722840"/>
                        <a:tab algn="l" pos="5667480"/>
                        <a:tab algn="l" pos="6611760"/>
                        <a:tab algn="l" pos="7556400"/>
                        <a:tab algn="l" pos="8501040"/>
                        <a:tab algn="l" pos="9445680"/>
                        <a:tab algn="l" pos="1039032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AutoShape 79"/>
                  <p:cNvSpPr/>
                  <p:nvPr/>
                </p:nvSpPr>
                <p:spPr>
                  <a:xfrm flipH="1" flipV="1" rot="2640000">
                    <a:off x="4625280" y="5081760"/>
                    <a:ext cx="144000" cy="45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4320" rIns="94320" tIns="47160" bIns="4716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44640"/>
                        <a:tab algn="l" pos="1889280"/>
                        <a:tab algn="l" pos="2833560"/>
                        <a:tab algn="l" pos="3778200"/>
                        <a:tab algn="l" pos="4722840"/>
                        <a:tab algn="l" pos="5667480"/>
                        <a:tab algn="l" pos="6611760"/>
                        <a:tab algn="l" pos="7556400"/>
                        <a:tab algn="l" pos="8501040"/>
                        <a:tab algn="l" pos="9445680"/>
                        <a:tab algn="l" pos="1039032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AutoShape 80"/>
                  <p:cNvSpPr/>
                  <p:nvPr/>
                </p:nvSpPr>
                <p:spPr>
                  <a:xfrm flipH="1" flipV="1" rot="3172200">
                    <a:off x="4585320" y="5117040"/>
                    <a:ext cx="144000" cy="45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4320" rIns="94320" tIns="47160" bIns="4716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44640"/>
                        <a:tab algn="l" pos="1889280"/>
                        <a:tab algn="l" pos="2833560"/>
                        <a:tab algn="l" pos="3778200"/>
                        <a:tab algn="l" pos="4722840"/>
                        <a:tab algn="l" pos="5667480"/>
                        <a:tab algn="l" pos="6611760"/>
                        <a:tab algn="l" pos="7556400"/>
                        <a:tab algn="l" pos="8501040"/>
                        <a:tab algn="l" pos="9445680"/>
                        <a:tab algn="l" pos="1039032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81"/>
                <p:cNvGrpSpPr/>
                <p:nvPr/>
              </p:nvGrpSpPr>
              <p:grpSpPr>
                <a:xfrm>
                  <a:off x="4286520" y="5114880"/>
                  <a:ext cx="608040" cy="429480"/>
                  <a:chOff x="4286520" y="5114880"/>
                  <a:chExt cx="608040" cy="429480"/>
                </a:xfrm>
              </p:grpSpPr>
              <p:sp>
                <p:nvSpPr>
                  <p:cNvPr id="487" name="AutoShape 82"/>
                  <p:cNvSpPr/>
                  <p:nvPr/>
                </p:nvSpPr>
                <p:spPr>
                  <a:xfrm flipH="1" flipV="1" rot="2881800">
                    <a:off x="4603320" y="5092920"/>
                    <a:ext cx="145440" cy="45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4320" rIns="94320" tIns="47160" bIns="4716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44640"/>
                        <a:tab algn="l" pos="1889280"/>
                        <a:tab algn="l" pos="2833560"/>
                        <a:tab algn="l" pos="3778200"/>
                        <a:tab algn="l" pos="4722840"/>
                        <a:tab algn="l" pos="5667480"/>
                        <a:tab algn="l" pos="6611760"/>
                        <a:tab algn="l" pos="7556400"/>
                        <a:tab algn="l" pos="8501040"/>
                        <a:tab algn="l" pos="9445680"/>
                        <a:tab algn="l" pos="1039032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AutoShape 83"/>
                  <p:cNvSpPr/>
                  <p:nvPr/>
                </p:nvSpPr>
                <p:spPr>
                  <a:xfrm flipH="1" flipV="1" rot="3697200">
                    <a:off x="4545360" y="5142600"/>
                    <a:ext cx="145080" cy="45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4320" rIns="94320" tIns="47160" bIns="4716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44640"/>
                        <a:tab algn="l" pos="1889280"/>
                        <a:tab algn="l" pos="2833560"/>
                        <a:tab algn="l" pos="3778200"/>
                        <a:tab algn="l" pos="4722840"/>
                        <a:tab algn="l" pos="5667480"/>
                        <a:tab algn="l" pos="6611760"/>
                        <a:tab algn="l" pos="7556400"/>
                        <a:tab algn="l" pos="8501040"/>
                        <a:tab algn="l" pos="9445680"/>
                        <a:tab algn="l" pos="1039032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AutoShape 84"/>
                  <p:cNvSpPr/>
                  <p:nvPr/>
                </p:nvSpPr>
                <p:spPr>
                  <a:xfrm flipH="1" flipV="1" rot="3993000">
                    <a:off x="4503960" y="5158440"/>
                    <a:ext cx="145080" cy="45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4320" rIns="94320" tIns="47160" bIns="4716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44640"/>
                        <a:tab algn="l" pos="1889280"/>
                        <a:tab algn="l" pos="2833560"/>
                        <a:tab algn="l" pos="3778200"/>
                        <a:tab algn="l" pos="4722840"/>
                        <a:tab algn="l" pos="5667480"/>
                        <a:tab algn="l" pos="6611760"/>
                        <a:tab algn="l" pos="7556400"/>
                        <a:tab algn="l" pos="8501040"/>
                        <a:tab algn="l" pos="9445680"/>
                        <a:tab algn="l" pos="1039032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AutoShape 85"/>
                  <p:cNvSpPr/>
                  <p:nvPr/>
                </p:nvSpPr>
                <p:spPr>
                  <a:xfrm flipH="1" flipV="1" rot="4525200">
                    <a:off x="4452480" y="5176080"/>
                    <a:ext cx="145080" cy="45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4320" rIns="94320" tIns="47160" bIns="4716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44640"/>
                        <a:tab algn="l" pos="1889280"/>
                        <a:tab algn="l" pos="2833560"/>
                        <a:tab algn="l" pos="3778200"/>
                        <a:tab algn="l" pos="4722840"/>
                        <a:tab algn="l" pos="5667480"/>
                        <a:tab algn="l" pos="6611760"/>
                        <a:tab algn="l" pos="7556400"/>
                        <a:tab algn="l" pos="8501040"/>
                        <a:tab algn="l" pos="9445680"/>
                        <a:tab algn="l" pos="1039032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91" name="Group 86"/>
            <p:cNvGrpSpPr/>
            <p:nvPr/>
          </p:nvGrpSpPr>
          <p:grpSpPr>
            <a:xfrm>
              <a:off x="4388040" y="5000400"/>
              <a:ext cx="567000" cy="502920"/>
              <a:chOff x="4388040" y="5000400"/>
              <a:chExt cx="567000" cy="502920"/>
            </a:xfrm>
          </p:grpSpPr>
          <p:grpSp>
            <p:nvGrpSpPr>
              <p:cNvPr id="492" name="Group 87"/>
              <p:cNvGrpSpPr/>
              <p:nvPr/>
            </p:nvGrpSpPr>
            <p:grpSpPr>
              <a:xfrm>
                <a:off x="4516560" y="5000400"/>
                <a:ext cx="438480" cy="499320"/>
                <a:chOff x="4516560" y="5000400"/>
                <a:chExt cx="438480" cy="499320"/>
              </a:xfrm>
            </p:grpSpPr>
            <p:sp>
              <p:nvSpPr>
                <p:cNvPr id="493" name="AutoShape 88"/>
                <p:cNvSpPr/>
                <p:nvPr/>
              </p:nvSpPr>
              <p:spPr>
                <a:xfrm flipH="1" flipV="1" rot="1528800">
                  <a:off x="4745520" y="5007600"/>
                  <a:ext cx="127440" cy="402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AutoShape 89"/>
                <p:cNvSpPr/>
                <p:nvPr/>
              </p:nvSpPr>
              <p:spPr>
                <a:xfrm flipH="1" flipV="1" rot="2344200">
                  <a:off x="4714560" y="5067000"/>
                  <a:ext cx="127440" cy="402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AutoShape 90"/>
                <p:cNvSpPr/>
                <p:nvPr/>
              </p:nvSpPr>
              <p:spPr>
                <a:xfrm flipH="1" flipV="1" rot="2640000">
                  <a:off x="4686480" y="5095080"/>
                  <a:ext cx="127440" cy="402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AutoShape 91"/>
                <p:cNvSpPr/>
                <p:nvPr/>
              </p:nvSpPr>
              <p:spPr>
                <a:xfrm flipH="1" flipV="1" rot="3172200">
                  <a:off x="4650840" y="5126040"/>
                  <a:ext cx="127440" cy="40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92"/>
              <p:cNvGrpSpPr/>
              <p:nvPr/>
            </p:nvGrpSpPr>
            <p:grpSpPr>
              <a:xfrm>
                <a:off x="4388040" y="5124960"/>
                <a:ext cx="536400" cy="378360"/>
                <a:chOff x="4388040" y="5124960"/>
                <a:chExt cx="536400" cy="378360"/>
              </a:xfrm>
            </p:grpSpPr>
            <p:sp>
              <p:nvSpPr>
                <p:cNvPr id="498" name="AutoShape 93"/>
                <p:cNvSpPr/>
                <p:nvPr/>
              </p:nvSpPr>
              <p:spPr>
                <a:xfrm flipH="1" flipV="1" rot="2881800">
                  <a:off x="4667760" y="5105520"/>
                  <a:ext cx="128160" cy="40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AutoShape 94"/>
                <p:cNvSpPr/>
                <p:nvPr/>
              </p:nvSpPr>
              <p:spPr>
                <a:xfrm flipH="1" flipV="1" rot="3697200">
                  <a:off x="4615560" y="5148720"/>
                  <a:ext cx="128160" cy="40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AutoShape 95"/>
                <p:cNvSpPr/>
                <p:nvPr/>
              </p:nvSpPr>
              <p:spPr>
                <a:xfrm flipH="1" flipV="1" rot="3993000">
                  <a:off x="4579200" y="5163120"/>
                  <a:ext cx="128520" cy="40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AutoShape 96"/>
                <p:cNvSpPr/>
                <p:nvPr/>
              </p:nvSpPr>
              <p:spPr>
                <a:xfrm flipH="1" flipV="1" rot="4525200">
                  <a:off x="4534200" y="5177880"/>
                  <a:ext cx="128520" cy="40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2" name="Rectangle 97"/>
            <p:cNvSpPr/>
            <p:nvPr/>
          </p:nvSpPr>
          <p:spPr>
            <a:xfrm>
              <a:off x="3932640" y="4853160"/>
              <a:ext cx="725760" cy="7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58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Oval 70"/>
          <p:cNvSpPr/>
          <p:nvPr/>
        </p:nvSpPr>
        <p:spPr>
          <a:xfrm>
            <a:off x="3686040" y="3279600"/>
            <a:ext cx="1190880" cy="1071720"/>
          </a:xfrm>
          <a:prstGeom prst="ellipse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140"/>
          <p:cNvGrpSpPr/>
          <p:nvPr/>
        </p:nvGrpSpPr>
        <p:grpSpPr>
          <a:xfrm>
            <a:off x="3797280" y="3233880"/>
            <a:ext cx="1136160" cy="1083600"/>
            <a:chOff x="3797280" y="3233880"/>
            <a:chExt cx="1136160" cy="1083600"/>
          </a:xfrm>
        </p:grpSpPr>
        <p:pic>
          <p:nvPicPr>
            <p:cNvPr id="505" name="Picture 72" descr="circuler_1"/>
            <p:cNvPicPr/>
            <p:nvPr/>
          </p:nvPicPr>
          <p:blipFill>
            <a:blip r:embed="rId6"/>
            <a:stretch/>
          </p:blipFill>
          <p:spPr>
            <a:xfrm>
              <a:off x="3803760" y="3313440"/>
              <a:ext cx="1112400" cy="100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Oval 73"/>
            <p:cNvSpPr/>
            <p:nvPr/>
          </p:nvSpPr>
          <p:spPr>
            <a:xfrm>
              <a:off x="3797280" y="3233880"/>
              <a:ext cx="1120320" cy="1051560"/>
            </a:xfrm>
            <a:prstGeom prst="ellipse">
              <a:avLst/>
            </a:prstGeom>
            <a:solidFill>
              <a:srgbClr val="0f6f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7" name="Picture 74" descr="light_shadow1"/>
            <p:cNvPicPr/>
            <p:nvPr/>
          </p:nvPicPr>
          <p:blipFill>
            <a:blip r:embed="rId7"/>
            <a:srcRect l="0" t="14273" r="0" b="0"/>
            <a:stretch/>
          </p:blipFill>
          <p:spPr>
            <a:xfrm>
              <a:off x="3909600" y="3347280"/>
              <a:ext cx="819720" cy="62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8" name="Group 75"/>
            <p:cNvGrpSpPr/>
            <p:nvPr/>
          </p:nvGrpSpPr>
          <p:grpSpPr>
            <a:xfrm>
              <a:off x="4205520" y="3634200"/>
              <a:ext cx="727920" cy="657000"/>
              <a:chOff x="4205520" y="3634200"/>
              <a:chExt cx="727920" cy="657000"/>
            </a:xfrm>
          </p:grpSpPr>
          <p:grpSp>
            <p:nvGrpSpPr>
              <p:cNvPr id="509" name="Group 76"/>
              <p:cNvGrpSpPr/>
              <p:nvPr/>
            </p:nvGrpSpPr>
            <p:grpSpPr>
              <a:xfrm>
                <a:off x="4371120" y="3634200"/>
                <a:ext cx="562320" cy="651600"/>
                <a:chOff x="4371120" y="3634200"/>
                <a:chExt cx="562320" cy="651600"/>
              </a:xfrm>
            </p:grpSpPr>
            <p:sp>
              <p:nvSpPr>
                <p:cNvPr id="510" name="AutoShape 77"/>
                <p:cNvSpPr/>
                <p:nvPr/>
              </p:nvSpPr>
              <p:spPr>
                <a:xfrm flipH="1" flipV="1" rot="1528800">
                  <a:off x="4676760" y="3638880"/>
                  <a:ext cx="145080" cy="53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AutoShape 78"/>
                <p:cNvSpPr/>
                <p:nvPr/>
              </p:nvSpPr>
              <p:spPr>
                <a:xfrm flipH="1" flipV="1" rot="2344200">
                  <a:off x="4635720" y="3717000"/>
                  <a:ext cx="145080" cy="53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79"/>
                <p:cNvSpPr/>
                <p:nvPr/>
              </p:nvSpPr>
              <p:spPr>
                <a:xfrm flipH="1" flipV="1" rot="2640000">
                  <a:off x="4599720" y="3755520"/>
                  <a:ext cx="145080" cy="53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AutoShape 80"/>
                <p:cNvSpPr/>
                <p:nvPr/>
              </p:nvSpPr>
              <p:spPr>
                <a:xfrm flipH="1" flipV="1" rot="3172200">
                  <a:off x="4555080" y="3799080"/>
                  <a:ext cx="145080" cy="53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Group 81"/>
              <p:cNvGrpSpPr/>
              <p:nvPr/>
            </p:nvGrpSpPr>
            <p:grpSpPr>
              <a:xfrm>
                <a:off x="4205520" y="3807360"/>
                <a:ext cx="696960" cy="483840"/>
                <a:chOff x="4205520" y="3807360"/>
                <a:chExt cx="696960" cy="483840"/>
              </a:xfrm>
            </p:grpSpPr>
            <p:sp>
              <p:nvSpPr>
                <p:cNvPr id="515" name="AutoShape 82"/>
                <p:cNvSpPr/>
                <p:nvPr/>
              </p:nvSpPr>
              <p:spPr>
                <a:xfrm flipH="1" flipV="1" rot="2881800">
                  <a:off x="4581360" y="3772440"/>
                  <a:ext cx="145800" cy="53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AutoShape 83"/>
                <p:cNvSpPr/>
                <p:nvPr/>
              </p:nvSpPr>
              <p:spPr>
                <a:xfrm flipH="1" flipV="1" rot="3697200">
                  <a:off x="4514400" y="3828960"/>
                  <a:ext cx="145440" cy="53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84"/>
                <p:cNvSpPr/>
                <p:nvPr/>
              </p:nvSpPr>
              <p:spPr>
                <a:xfrm flipH="1" flipV="1" rot="3993000">
                  <a:off x="4466880" y="3850560"/>
                  <a:ext cx="145800" cy="53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AutoShape 85"/>
                <p:cNvSpPr/>
                <p:nvPr/>
              </p:nvSpPr>
              <p:spPr>
                <a:xfrm flipH="1" flipV="1" rot="4525200">
                  <a:off x="4408920" y="3873240"/>
                  <a:ext cx="145800" cy="53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9" name="Group 87"/>
          <p:cNvGrpSpPr/>
          <p:nvPr/>
        </p:nvGrpSpPr>
        <p:grpSpPr>
          <a:xfrm>
            <a:off x="4379400" y="3751920"/>
            <a:ext cx="496800" cy="575280"/>
            <a:chOff x="4379400" y="3751920"/>
            <a:chExt cx="496800" cy="575280"/>
          </a:xfrm>
        </p:grpSpPr>
        <p:sp>
          <p:nvSpPr>
            <p:cNvPr id="520" name="AutoShape 88"/>
            <p:cNvSpPr/>
            <p:nvPr/>
          </p:nvSpPr>
          <p:spPr>
            <a:xfrm flipH="1" flipV="1" rot="1528800">
              <a:off x="4649040" y="3756240"/>
              <a:ext cx="129240" cy="47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89"/>
            <p:cNvSpPr/>
            <p:nvPr/>
          </p:nvSpPr>
          <p:spPr>
            <a:xfrm flipH="1" flipV="1" rot="2344200">
              <a:off x="4612680" y="3825720"/>
              <a:ext cx="129240" cy="47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90"/>
            <p:cNvSpPr/>
            <p:nvPr/>
          </p:nvSpPr>
          <p:spPr>
            <a:xfrm flipH="1" flipV="1" rot="2640000">
              <a:off x="4581360" y="3859200"/>
              <a:ext cx="129240" cy="47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utoShape 91"/>
            <p:cNvSpPr/>
            <p:nvPr/>
          </p:nvSpPr>
          <p:spPr>
            <a:xfrm flipH="1" flipV="1" rot="3172200">
              <a:off x="4541400" y="3897000"/>
              <a:ext cx="129240" cy="47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92"/>
          <p:cNvGrpSpPr/>
          <p:nvPr/>
        </p:nvGrpSpPr>
        <p:grpSpPr>
          <a:xfrm>
            <a:off x="4379400" y="3953880"/>
            <a:ext cx="554040" cy="398160"/>
            <a:chOff x="4379400" y="3953880"/>
            <a:chExt cx="554040" cy="398160"/>
          </a:xfrm>
        </p:grpSpPr>
        <p:sp>
          <p:nvSpPr>
            <p:cNvPr id="525" name="AutoShape 93"/>
            <p:cNvSpPr/>
            <p:nvPr/>
          </p:nvSpPr>
          <p:spPr>
            <a:xfrm flipH="1" flipV="1" rot="2882400">
              <a:off x="4656240" y="3942720"/>
              <a:ext cx="151200" cy="40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94"/>
            <p:cNvSpPr/>
            <p:nvPr/>
          </p:nvSpPr>
          <p:spPr>
            <a:xfrm flipH="1" flipV="1" rot="3697800">
              <a:off x="4604760" y="3985920"/>
              <a:ext cx="151560" cy="40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95"/>
            <p:cNvSpPr/>
            <p:nvPr/>
          </p:nvSpPr>
          <p:spPr>
            <a:xfrm flipH="1" flipV="1" rot="3993600">
              <a:off x="4566600" y="3998880"/>
              <a:ext cx="151200" cy="40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96"/>
            <p:cNvSpPr/>
            <p:nvPr/>
          </p:nvSpPr>
          <p:spPr>
            <a:xfrm flipH="1" flipV="1" rot="4525800">
              <a:off x="4518360" y="4011840"/>
              <a:ext cx="151200" cy="40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Rectangle 97"/>
          <p:cNvSpPr/>
          <p:nvPr/>
        </p:nvSpPr>
        <p:spPr>
          <a:xfrm>
            <a:off x="4020480" y="3575160"/>
            <a:ext cx="927000" cy="4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86,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69"/>
          <p:cNvGrpSpPr/>
          <p:nvPr/>
        </p:nvGrpSpPr>
        <p:grpSpPr>
          <a:xfrm>
            <a:off x="3720960" y="2033640"/>
            <a:ext cx="1253880" cy="1085400"/>
            <a:chOff x="3720960" y="2033640"/>
            <a:chExt cx="1253880" cy="1085400"/>
          </a:xfrm>
        </p:grpSpPr>
        <p:sp>
          <p:nvSpPr>
            <p:cNvPr id="531" name="Oval 70"/>
            <p:cNvSpPr/>
            <p:nvPr/>
          </p:nvSpPr>
          <p:spPr>
            <a:xfrm>
              <a:off x="3720960" y="2033640"/>
              <a:ext cx="1253880" cy="103644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71"/>
            <p:cNvGrpSpPr/>
            <p:nvPr/>
          </p:nvGrpSpPr>
          <p:grpSpPr>
            <a:xfrm>
              <a:off x="3759120" y="2066040"/>
              <a:ext cx="1181160" cy="1053000"/>
              <a:chOff x="3759120" y="2066040"/>
              <a:chExt cx="1181160" cy="1053000"/>
            </a:xfrm>
          </p:grpSpPr>
          <p:pic>
            <p:nvPicPr>
              <p:cNvPr id="533" name="Picture 72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3765240" y="2145960"/>
                <a:ext cx="1173600" cy="9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4" name="Oval 73"/>
              <p:cNvSpPr/>
              <p:nvPr/>
            </p:nvSpPr>
            <p:spPr>
              <a:xfrm>
                <a:off x="3759120" y="2066040"/>
                <a:ext cx="1181160" cy="1018800"/>
              </a:xfrm>
              <a:prstGeom prst="ellipse">
                <a:avLst/>
              </a:prstGeom>
              <a:solidFill>
                <a:srgbClr val="0f6fc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320" rIns="9432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5" name="Picture 74" descr="light_shadow1"/>
              <p:cNvPicPr/>
              <p:nvPr/>
            </p:nvPicPr>
            <p:blipFill>
              <a:blip r:embed="rId9"/>
              <a:srcRect l="0" t="14273" r="0" b="0"/>
              <a:stretch/>
            </p:blipFill>
            <p:spPr>
              <a:xfrm>
                <a:off x="3898440" y="2145960"/>
                <a:ext cx="865080" cy="608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36" name="Group 75"/>
              <p:cNvGrpSpPr/>
              <p:nvPr/>
            </p:nvGrpSpPr>
            <p:grpSpPr>
              <a:xfrm>
                <a:off x="4220640" y="2457000"/>
                <a:ext cx="718200" cy="641880"/>
                <a:chOff x="4220640" y="2457000"/>
                <a:chExt cx="718200" cy="641880"/>
              </a:xfrm>
            </p:grpSpPr>
            <p:grpSp>
              <p:nvGrpSpPr>
                <p:cNvPr id="537" name="Group 76"/>
                <p:cNvGrpSpPr/>
                <p:nvPr/>
              </p:nvGrpSpPr>
              <p:grpSpPr>
                <a:xfrm>
                  <a:off x="4384080" y="2457000"/>
                  <a:ext cx="554760" cy="637200"/>
                  <a:chOff x="4384080" y="2457000"/>
                  <a:chExt cx="554760" cy="637200"/>
                </a:xfrm>
              </p:grpSpPr>
              <p:sp>
                <p:nvSpPr>
                  <p:cNvPr id="538" name="AutoShape 77"/>
                  <p:cNvSpPr/>
                  <p:nvPr/>
                </p:nvSpPr>
                <p:spPr>
                  <a:xfrm flipH="1" flipV="1" rot="1528800">
                    <a:off x="4678920" y="2464200"/>
                    <a:ext cx="153360" cy="51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4320" rIns="94320" tIns="47160" bIns="4716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44640"/>
                        <a:tab algn="l" pos="1889280"/>
                        <a:tab algn="l" pos="2833560"/>
                        <a:tab algn="l" pos="3778200"/>
                        <a:tab algn="l" pos="4722840"/>
                        <a:tab algn="l" pos="5667480"/>
                        <a:tab algn="l" pos="6611760"/>
                        <a:tab algn="l" pos="7556400"/>
                        <a:tab algn="l" pos="8501040"/>
                        <a:tab algn="l" pos="9445680"/>
                        <a:tab algn="l" pos="1039032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AutoShape 78"/>
                  <p:cNvSpPr/>
                  <p:nvPr/>
                </p:nvSpPr>
                <p:spPr>
                  <a:xfrm flipH="1" flipV="1" rot="2344200">
                    <a:off x="4638960" y="2540160"/>
                    <a:ext cx="153360" cy="51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4320" rIns="94320" tIns="47160" bIns="4716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44640"/>
                        <a:tab algn="l" pos="1889280"/>
                        <a:tab algn="l" pos="2833560"/>
                        <a:tab algn="l" pos="3778200"/>
                        <a:tab algn="l" pos="4722840"/>
                        <a:tab algn="l" pos="5667480"/>
                        <a:tab algn="l" pos="6611760"/>
                        <a:tab algn="l" pos="7556400"/>
                        <a:tab algn="l" pos="8501040"/>
                        <a:tab algn="l" pos="9445680"/>
                        <a:tab algn="l" pos="1039032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AutoShape 79"/>
                  <p:cNvSpPr/>
                  <p:nvPr/>
                </p:nvSpPr>
                <p:spPr>
                  <a:xfrm flipH="1" flipV="1" rot="2640000">
                    <a:off x="4604400" y="2576880"/>
                    <a:ext cx="15336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4320" rIns="94320" tIns="47160" bIns="4716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44640"/>
                        <a:tab algn="l" pos="1889280"/>
                        <a:tab algn="l" pos="2833560"/>
                        <a:tab algn="l" pos="3778200"/>
                        <a:tab algn="l" pos="4722840"/>
                        <a:tab algn="l" pos="5667480"/>
                        <a:tab algn="l" pos="6611760"/>
                        <a:tab algn="l" pos="7556400"/>
                        <a:tab algn="l" pos="8501040"/>
                        <a:tab algn="l" pos="9445680"/>
                        <a:tab algn="l" pos="1039032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AutoShape 80"/>
                  <p:cNvSpPr/>
                  <p:nvPr/>
                </p:nvSpPr>
                <p:spPr>
                  <a:xfrm flipH="1" flipV="1" rot="3172200">
                    <a:off x="4559760" y="2617560"/>
                    <a:ext cx="15336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4320" rIns="94320" tIns="47160" bIns="4716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44640"/>
                        <a:tab algn="l" pos="1889280"/>
                        <a:tab algn="l" pos="2833560"/>
                        <a:tab algn="l" pos="3778200"/>
                        <a:tab algn="l" pos="4722840"/>
                        <a:tab algn="l" pos="5667480"/>
                        <a:tab algn="l" pos="6611760"/>
                        <a:tab algn="l" pos="7556400"/>
                        <a:tab algn="l" pos="8501040"/>
                        <a:tab algn="l" pos="9445680"/>
                        <a:tab algn="l" pos="1039032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Group 81"/>
                <p:cNvGrpSpPr/>
                <p:nvPr/>
              </p:nvGrpSpPr>
              <p:grpSpPr>
                <a:xfrm>
                  <a:off x="4220640" y="2619720"/>
                  <a:ext cx="684000" cy="479160"/>
                  <a:chOff x="4220640" y="2619720"/>
                  <a:chExt cx="684000" cy="479160"/>
                </a:xfrm>
              </p:grpSpPr>
              <p:sp>
                <p:nvSpPr>
                  <p:cNvPr id="543" name="AutoShape 82"/>
                  <p:cNvSpPr/>
                  <p:nvPr/>
                </p:nvSpPr>
                <p:spPr>
                  <a:xfrm flipH="1" flipV="1" rot="2881800">
                    <a:off x="4582440" y="2591280"/>
                    <a:ext cx="154440" cy="51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4320" rIns="94320" tIns="47160" bIns="4716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44640"/>
                        <a:tab algn="l" pos="1889280"/>
                        <a:tab algn="l" pos="2833560"/>
                        <a:tab algn="l" pos="3778200"/>
                        <a:tab algn="l" pos="4722840"/>
                        <a:tab algn="l" pos="5667480"/>
                        <a:tab algn="l" pos="6611760"/>
                        <a:tab algn="l" pos="7556400"/>
                        <a:tab algn="l" pos="8501040"/>
                        <a:tab algn="l" pos="9445680"/>
                        <a:tab algn="l" pos="1039032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AutoShape 83"/>
                  <p:cNvSpPr/>
                  <p:nvPr/>
                </p:nvSpPr>
                <p:spPr>
                  <a:xfrm flipH="1" flipV="1" rot="3697200">
                    <a:off x="4516560" y="2646000"/>
                    <a:ext cx="15444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4320" rIns="94320" tIns="47160" bIns="4716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44640"/>
                        <a:tab algn="l" pos="1889280"/>
                        <a:tab algn="l" pos="2833560"/>
                        <a:tab algn="l" pos="3778200"/>
                        <a:tab algn="l" pos="4722840"/>
                        <a:tab algn="l" pos="5667480"/>
                        <a:tab algn="l" pos="6611760"/>
                        <a:tab algn="l" pos="7556400"/>
                        <a:tab algn="l" pos="8501040"/>
                        <a:tab algn="l" pos="9445680"/>
                        <a:tab algn="l" pos="1039032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AutoShape 84"/>
                  <p:cNvSpPr/>
                  <p:nvPr/>
                </p:nvSpPr>
                <p:spPr>
                  <a:xfrm flipH="1" flipV="1" rot="3993000">
                    <a:off x="4469760" y="2665440"/>
                    <a:ext cx="154800" cy="51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4320" rIns="94320" tIns="47160" bIns="4716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44640"/>
                        <a:tab algn="l" pos="1889280"/>
                        <a:tab algn="l" pos="2833560"/>
                        <a:tab algn="l" pos="3778200"/>
                        <a:tab algn="l" pos="4722840"/>
                        <a:tab algn="l" pos="5667480"/>
                        <a:tab algn="l" pos="6611760"/>
                        <a:tab algn="l" pos="7556400"/>
                        <a:tab algn="l" pos="8501040"/>
                        <a:tab algn="l" pos="9445680"/>
                        <a:tab algn="l" pos="1039032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AutoShape 85"/>
                  <p:cNvSpPr/>
                  <p:nvPr/>
                </p:nvSpPr>
                <p:spPr>
                  <a:xfrm flipH="1" flipV="1" rot="4525200">
                    <a:off x="4413240" y="2686680"/>
                    <a:ext cx="15444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4320" rIns="94320" tIns="47160" bIns="4716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44640"/>
                        <a:tab algn="l" pos="1889280"/>
                        <a:tab algn="l" pos="2833560"/>
                        <a:tab algn="l" pos="3778200"/>
                        <a:tab algn="l" pos="4722840"/>
                        <a:tab algn="l" pos="5667480"/>
                        <a:tab algn="l" pos="6611760"/>
                        <a:tab algn="l" pos="7556400"/>
                        <a:tab algn="l" pos="8501040"/>
                        <a:tab algn="l" pos="9445680"/>
                        <a:tab algn="l" pos="1039032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47" name="Group 86"/>
            <p:cNvGrpSpPr/>
            <p:nvPr/>
          </p:nvGrpSpPr>
          <p:grpSpPr>
            <a:xfrm>
              <a:off x="4330800" y="2487240"/>
              <a:ext cx="633960" cy="565560"/>
              <a:chOff x="4330800" y="2487240"/>
              <a:chExt cx="633960" cy="565560"/>
            </a:xfrm>
          </p:grpSpPr>
          <p:grpSp>
            <p:nvGrpSpPr>
              <p:cNvPr id="548" name="Group 87"/>
              <p:cNvGrpSpPr/>
              <p:nvPr/>
            </p:nvGrpSpPr>
            <p:grpSpPr>
              <a:xfrm>
                <a:off x="4474440" y="2487240"/>
                <a:ext cx="490320" cy="561600"/>
                <a:chOff x="4474440" y="2487240"/>
                <a:chExt cx="490320" cy="561600"/>
              </a:xfrm>
            </p:grpSpPr>
            <p:sp>
              <p:nvSpPr>
                <p:cNvPr id="549" name="AutoShape 88"/>
                <p:cNvSpPr/>
                <p:nvPr/>
              </p:nvSpPr>
              <p:spPr>
                <a:xfrm flipH="1" flipV="1" rot="1528800">
                  <a:off x="4735080" y="2494080"/>
                  <a:ext cx="136080" cy="45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AutoShape 89"/>
                <p:cNvSpPr/>
                <p:nvPr/>
              </p:nvSpPr>
              <p:spPr>
                <a:xfrm flipH="1" flipV="1" rot="2344200">
                  <a:off x="4699800" y="2561040"/>
                  <a:ext cx="135720" cy="45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AutoShape 90"/>
                <p:cNvSpPr/>
                <p:nvPr/>
              </p:nvSpPr>
              <p:spPr>
                <a:xfrm flipH="1" flipV="1" rot="2640000">
                  <a:off x="4668120" y="2593080"/>
                  <a:ext cx="136080" cy="45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AutoShape 91"/>
                <p:cNvSpPr/>
                <p:nvPr/>
              </p:nvSpPr>
              <p:spPr>
                <a:xfrm flipH="1" flipV="1" rot="3172200">
                  <a:off x="4628880" y="2628000"/>
                  <a:ext cx="136080" cy="45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Group 92"/>
              <p:cNvGrpSpPr/>
              <p:nvPr/>
            </p:nvGrpSpPr>
            <p:grpSpPr>
              <a:xfrm>
                <a:off x="4330800" y="2630160"/>
                <a:ext cx="604080" cy="422640"/>
                <a:chOff x="4330800" y="2630160"/>
                <a:chExt cx="604080" cy="422640"/>
              </a:xfrm>
            </p:grpSpPr>
            <p:sp>
              <p:nvSpPr>
                <p:cNvPr id="554" name="AutoShape 93"/>
                <p:cNvSpPr/>
                <p:nvPr/>
              </p:nvSpPr>
              <p:spPr>
                <a:xfrm flipH="1" flipV="1" rot="2881800">
                  <a:off x="4650840" y="2604960"/>
                  <a:ext cx="136800" cy="45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AutoShape 94"/>
                <p:cNvSpPr/>
                <p:nvPr/>
              </p:nvSpPr>
              <p:spPr>
                <a:xfrm flipH="1" flipV="1" rot="3697200">
                  <a:off x="4591080" y="2653560"/>
                  <a:ext cx="136800" cy="45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AutoShape 95"/>
                <p:cNvSpPr/>
                <p:nvPr/>
              </p:nvSpPr>
              <p:spPr>
                <a:xfrm flipH="1" flipV="1" rot="3993000">
                  <a:off x="4551120" y="2671200"/>
                  <a:ext cx="136800" cy="45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AutoShape 96"/>
                <p:cNvSpPr/>
                <p:nvPr/>
              </p:nvSpPr>
              <p:spPr>
                <a:xfrm flipH="1" flipV="1" rot="4525200">
                  <a:off x="4500000" y="2688480"/>
                  <a:ext cx="136800" cy="45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8" name="Rectangle 97"/>
            <p:cNvSpPr/>
            <p:nvPr/>
          </p:nvSpPr>
          <p:spPr>
            <a:xfrm>
              <a:off x="3947040" y="2319840"/>
              <a:ext cx="792720" cy="4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32,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9" name="Picture 72" descr="circuler_1"/>
          <p:cNvPicPr/>
          <p:nvPr/>
        </p:nvPicPr>
        <p:blipFill>
          <a:blip r:embed="rId10"/>
          <a:stretch/>
        </p:blipFill>
        <p:spPr>
          <a:xfrm>
            <a:off x="3797280" y="1003320"/>
            <a:ext cx="1163520" cy="9428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74" descr="light_shadow1"/>
          <p:cNvPicPr/>
          <p:nvPr/>
        </p:nvPicPr>
        <p:blipFill>
          <a:blip r:embed="rId11"/>
          <a:srcRect l="0" t="14273" r="0" b="0"/>
          <a:stretch/>
        </p:blipFill>
        <p:spPr>
          <a:xfrm>
            <a:off x="-96840" y="939960"/>
            <a:ext cx="1130400" cy="534960"/>
          </a:xfrm>
          <a:prstGeom prst="rect">
            <a:avLst/>
          </a:prstGeom>
          <a:ln w="0">
            <a:noFill/>
          </a:ln>
        </p:spPr>
      </p:pic>
      <p:grpSp>
        <p:nvGrpSpPr>
          <p:cNvPr id="561" name="Group 76"/>
          <p:cNvGrpSpPr/>
          <p:nvPr/>
        </p:nvGrpSpPr>
        <p:grpSpPr>
          <a:xfrm>
            <a:off x="1853640" y="691200"/>
            <a:ext cx="551160" cy="596160"/>
            <a:chOff x="1853640" y="691200"/>
            <a:chExt cx="551160" cy="596160"/>
          </a:xfrm>
        </p:grpSpPr>
        <p:sp>
          <p:nvSpPr>
            <p:cNvPr id="562" name="AutoShape 77"/>
            <p:cNvSpPr/>
            <p:nvPr/>
          </p:nvSpPr>
          <p:spPr>
            <a:xfrm flipH="1" flipV="1" rot="1528800">
              <a:off x="2115360" y="711360"/>
              <a:ext cx="200160" cy="45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AutoShape 78"/>
            <p:cNvSpPr/>
            <p:nvPr/>
          </p:nvSpPr>
          <p:spPr>
            <a:xfrm flipH="1" flipV="1" rot="2344200">
              <a:off x="2079720" y="779040"/>
              <a:ext cx="200160" cy="45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79"/>
            <p:cNvSpPr/>
            <p:nvPr/>
          </p:nvSpPr>
          <p:spPr>
            <a:xfrm flipH="1" flipV="1" rot="2640000">
              <a:off x="2043000" y="807480"/>
              <a:ext cx="200160" cy="45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80"/>
            <p:cNvSpPr/>
            <p:nvPr/>
          </p:nvSpPr>
          <p:spPr>
            <a:xfrm flipH="1" flipV="1" rot="3172200">
              <a:off x="1995840" y="840240"/>
              <a:ext cx="200160" cy="45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81"/>
          <p:cNvGrpSpPr/>
          <p:nvPr/>
        </p:nvGrpSpPr>
        <p:grpSpPr>
          <a:xfrm>
            <a:off x="1700280" y="816840"/>
            <a:ext cx="643680" cy="473760"/>
            <a:chOff x="1700280" y="816840"/>
            <a:chExt cx="643680" cy="473760"/>
          </a:xfrm>
        </p:grpSpPr>
        <p:sp>
          <p:nvSpPr>
            <p:cNvPr id="567" name="AutoShape 82"/>
            <p:cNvSpPr/>
            <p:nvPr/>
          </p:nvSpPr>
          <p:spPr>
            <a:xfrm flipH="1" flipV="1" rot="2882400">
              <a:off x="2005560" y="815760"/>
              <a:ext cx="201240" cy="45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83"/>
            <p:cNvSpPr/>
            <p:nvPr/>
          </p:nvSpPr>
          <p:spPr>
            <a:xfrm flipH="1" flipV="1" rot="3697800">
              <a:off x="1946520" y="864360"/>
              <a:ext cx="201600" cy="45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84"/>
            <p:cNvSpPr/>
            <p:nvPr/>
          </p:nvSpPr>
          <p:spPr>
            <a:xfrm flipH="1" flipV="1" rot="3993600">
              <a:off x="1901520" y="876240"/>
              <a:ext cx="201600" cy="45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85"/>
            <p:cNvSpPr/>
            <p:nvPr/>
          </p:nvSpPr>
          <p:spPr>
            <a:xfrm flipH="1" flipV="1" rot="4525800">
              <a:off x="1845720" y="888120"/>
              <a:ext cx="201600" cy="45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86"/>
          <p:cNvGrpSpPr/>
          <p:nvPr/>
        </p:nvGrpSpPr>
        <p:grpSpPr>
          <a:xfrm>
            <a:off x="3351960" y="1335240"/>
            <a:ext cx="618840" cy="523800"/>
            <a:chOff x="3351960" y="1335240"/>
            <a:chExt cx="618840" cy="523800"/>
          </a:xfrm>
        </p:grpSpPr>
        <p:grpSp>
          <p:nvGrpSpPr>
            <p:cNvPr id="572" name="Group 87"/>
            <p:cNvGrpSpPr/>
            <p:nvPr/>
          </p:nvGrpSpPr>
          <p:grpSpPr>
            <a:xfrm>
              <a:off x="3486960" y="1335240"/>
              <a:ext cx="483840" cy="522720"/>
              <a:chOff x="3486960" y="1335240"/>
              <a:chExt cx="483840" cy="522720"/>
            </a:xfrm>
          </p:grpSpPr>
          <p:sp>
            <p:nvSpPr>
              <p:cNvPr id="573" name="AutoShape 88"/>
              <p:cNvSpPr/>
              <p:nvPr/>
            </p:nvSpPr>
            <p:spPr>
              <a:xfrm flipH="1" flipV="1" rot="1528800">
                <a:off x="3715200" y="1353600"/>
                <a:ext cx="177480" cy="400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320" rIns="94320" tIns="47160" bIns="4716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AutoShape 89"/>
              <p:cNvSpPr/>
              <p:nvPr/>
            </p:nvSpPr>
            <p:spPr>
              <a:xfrm flipH="1" flipV="1" rot="2344200">
                <a:off x="3684600" y="1412280"/>
                <a:ext cx="177480" cy="400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320" rIns="94320" tIns="47160" bIns="4716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AutoShape 90"/>
              <p:cNvSpPr/>
              <p:nvPr/>
            </p:nvSpPr>
            <p:spPr>
              <a:xfrm flipH="1" flipV="1" rot="2640000">
                <a:off x="3652200" y="1437480"/>
                <a:ext cx="177480" cy="400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320" rIns="94320" tIns="47160" bIns="4716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AutoShape 91"/>
              <p:cNvSpPr/>
              <p:nvPr/>
            </p:nvSpPr>
            <p:spPr>
              <a:xfrm flipH="1" flipV="1" rot="3172200">
                <a:off x="3611160" y="1465560"/>
                <a:ext cx="177480" cy="400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320" rIns="94320" tIns="47160" bIns="471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92"/>
            <p:cNvGrpSpPr/>
            <p:nvPr/>
          </p:nvGrpSpPr>
          <p:grpSpPr>
            <a:xfrm>
              <a:off x="3351960" y="1442520"/>
              <a:ext cx="564480" cy="416520"/>
              <a:chOff x="3351960" y="1442520"/>
              <a:chExt cx="564480" cy="416520"/>
            </a:xfrm>
          </p:grpSpPr>
          <p:sp>
            <p:nvSpPr>
              <p:cNvPr id="578" name="AutoShape 93"/>
              <p:cNvSpPr/>
              <p:nvPr/>
            </p:nvSpPr>
            <p:spPr>
              <a:xfrm flipH="1" flipV="1" rot="2881800">
                <a:off x="3618360" y="1442520"/>
                <a:ext cx="178560" cy="399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320" rIns="94320" tIns="47160" bIns="471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AutoShape 94"/>
              <p:cNvSpPr/>
              <p:nvPr/>
            </p:nvSpPr>
            <p:spPr>
              <a:xfrm flipH="1" flipV="1" rot="3697200">
                <a:off x="3566520" y="1485000"/>
                <a:ext cx="178560" cy="399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320" rIns="94320" tIns="47160" bIns="471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AutoShape 95"/>
              <p:cNvSpPr/>
              <p:nvPr/>
            </p:nvSpPr>
            <p:spPr>
              <a:xfrm flipH="1" flipV="1" rot="3993000">
                <a:off x="3528000" y="1495080"/>
                <a:ext cx="178560" cy="399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320" rIns="94320" tIns="47160" bIns="471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AutoShape 96"/>
              <p:cNvSpPr/>
              <p:nvPr/>
            </p:nvSpPr>
            <p:spPr>
              <a:xfrm flipH="1" flipV="1" rot="4525200">
                <a:off x="3478320" y="1505880"/>
                <a:ext cx="178560" cy="399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320" rIns="94320" tIns="47160" bIns="471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Rectangle 97"/>
          <p:cNvSpPr/>
          <p:nvPr/>
        </p:nvSpPr>
        <p:spPr>
          <a:xfrm>
            <a:off x="3648240" y="1258920"/>
            <a:ext cx="14126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217,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57" descr="circuler_1"/>
          <p:cNvPicPr/>
          <p:nvPr/>
        </p:nvPicPr>
        <p:blipFill>
          <a:blip r:embed="rId12"/>
          <a:stretch/>
        </p:blipFill>
        <p:spPr>
          <a:xfrm rot="1513200">
            <a:off x="293760" y="1467000"/>
            <a:ext cx="2655720" cy="2585880"/>
          </a:xfrm>
          <a:prstGeom prst="rect">
            <a:avLst/>
          </a:prstGeom>
          <a:ln w="0">
            <a:noFill/>
          </a:ln>
        </p:spPr>
      </p:pic>
      <p:sp>
        <p:nvSpPr>
          <p:cNvPr id="584" name="Oval 158"/>
          <p:cNvSpPr/>
          <p:nvPr/>
        </p:nvSpPr>
        <p:spPr>
          <a:xfrm rot="19656600">
            <a:off x="112320" y="1312560"/>
            <a:ext cx="2933640" cy="313524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160"/>
          <p:cNvGrpSpPr/>
          <p:nvPr/>
        </p:nvGrpSpPr>
        <p:grpSpPr>
          <a:xfrm>
            <a:off x="396000" y="3257640"/>
            <a:ext cx="1901160" cy="937080"/>
            <a:chOff x="396000" y="3257640"/>
            <a:chExt cx="1901160" cy="937080"/>
          </a:xfrm>
        </p:grpSpPr>
        <p:sp>
          <p:nvSpPr>
            <p:cNvPr id="586" name="AutoShape 161"/>
            <p:cNvSpPr/>
            <p:nvPr/>
          </p:nvSpPr>
          <p:spPr>
            <a:xfrm flipH="1" flipV="1" rot="5478600">
              <a:off x="1442880" y="3126960"/>
              <a:ext cx="302040" cy="139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utoShape 162"/>
            <p:cNvSpPr/>
            <p:nvPr/>
          </p:nvSpPr>
          <p:spPr>
            <a:xfrm flipH="1" flipV="1" rot="6294600">
              <a:off x="1211040" y="3112920"/>
              <a:ext cx="302040" cy="139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utoShape 163"/>
            <p:cNvSpPr/>
            <p:nvPr/>
          </p:nvSpPr>
          <p:spPr>
            <a:xfrm flipH="1" flipV="1" rot="6590400">
              <a:off x="1082160" y="3076200"/>
              <a:ext cx="302040" cy="139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utoShape 164"/>
            <p:cNvSpPr/>
            <p:nvPr/>
          </p:nvSpPr>
          <p:spPr>
            <a:xfrm flipH="1" flipV="1" rot="7122600">
              <a:off x="930600" y="3025800"/>
              <a:ext cx="302040" cy="139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165"/>
          <p:cNvGrpSpPr/>
          <p:nvPr/>
        </p:nvGrpSpPr>
        <p:grpSpPr>
          <a:xfrm>
            <a:off x="185400" y="2847600"/>
            <a:ext cx="1691640" cy="1374480"/>
            <a:chOff x="185400" y="2847600"/>
            <a:chExt cx="1691640" cy="1374480"/>
          </a:xfrm>
        </p:grpSpPr>
        <p:sp>
          <p:nvSpPr>
            <p:cNvPr id="591" name="AutoShape 166"/>
            <p:cNvSpPr/>
            <p:nvPr/>
          </p:nvSpPr>
          <p:spPr>
            <a:xfrm flipH="1" flipV="1" rot="6832200">
              <a:off x="1023480" y="3078360"/>
              <a:ext cx="303480" cy="139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AutoShape 167"/>
            <p:cNvSpPr/>
            <p:nvPr/>
          </p:nvSpPr>
          <p:spPr>
            <a:xfrm flipH="1" flipV="1" rot="7648200">
              <a:off x="814680" y="2976120"/>
              <a:ext cx="303480" cy="139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168"/>
            <p:cNvSpPr/>
            <p:nvPr/>
          </p:nvSpPr>
          <p:spPr>
            <a:xfrm flipH="1" flipV="1" rot="7943400">
              <a:off x="711000" y="2891880"/>
              <a:ext cx="303480" cy="139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169"/>
            <p:cNvSpPr/>
            <p:nvPr/>
          </p:nvSpPr>
          <p:spPr>
            <a:xfrm flipH="1" flipV="1" rot="8475600">
              <a:off x="589320" y="2788560"/>
              <a:ext cx="303840" cy="139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Rectangle 214"/>
          <p:cNvSpPr/>
          <p:nvPr/>
        </p:nvSpPr>
        <p:spPr>
          <a:xfrm>
            <a:off x="677880" y="2224080"/>
            <a:ext cx="18414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Здоров`я павлоградців на 2023-2025 роки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116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. г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173"/>
          <p:cNvSpPr/>
          <p:nvPr/>
        </p:nvSpPr>
        <p:spPr>
          <a:xfrm>
            <a:off x="5270400" y="1174680"/>
            <a:ext cx="4091040" cy="781200"/>
          </a:xfrm>
          <a:noFill/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нансова підтримка комунальним  закладам охорони здоров’я  та  оплата праці медичного персоналу і комунальних по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173"/>
          <p:cNvSpPr/>
          <p:nvPr/>
        </p:nvSpPr>
        <p:spPr>
          <a:xfrm>
            <a:off x="5270400" y="2295360"/>
            <a:ext cx="4091040" cy="425520"/>
          </a:xfrm>
          <a:noFill/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шкодування пільгових пенсій медичним працівни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173"/>
          <p:cNvSpPr/>
          <p:nvPr/>
        </p:nvSpPr>
        <p:spPr>
          <a:xfrm>
            <a:off x="5270400" y="3284640"/>
            <a:ext cx="3889440" cy="574560"/>
          </a:xfrm>
          <a:noFill/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ата медичних послуг населенню понад обсяги, що передбачені програмою державних гарантій медичного обслуговування насел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173"/>
          <p:cNvSpPr/>
          <p:nvPr/>
        </p:nvSpPr>
        <p:spPr>
          <a:xfrm>
            <a:off x="5270400" y="4518000"/>
            <a:ext cx="3889440" cy="1027080"/>
          </a:xfrm>
          <a:noFill/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бання туберкуліну, продуктових наборів для хворих на туберкульоз під час амбулаторного лікування, молочних сумішей для дітей  народжених від ВІЛ-інфікованих матерів, відшкодування лікарських засобів по пільговим рецептам, придбання реактивів і предметів медичного призначення, тощ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90"/>
          <p:cNvSpPr/>
          <p:nvPr/>
        </p:nvSpPr>
        <p:spPr>
          <a:xfrm>
            <a:off x="8877600" y="0"/>
            <a:ext cx="4251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8444880" y="576360"/>
            <a:ext cx="667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.гр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ая соединительная линия 172"/>
          <p:cNvSpPr/>
          <p:nvPr/>
        </p:nvSpPr>
        <p:spPr>
          <a:xfrm flipV="1">
            <a:off x="2679840" y="1346040"/>
            <a:ext cx="1143000" cy="642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ая соединительная линия 175"/>
          <p:cNvSpPr/>
          <p:nvPr/>
        </p:nvSpPr>
        <p:spPr>
          <a:xfrm>
            <a:off x="2894040" y="3774960"/>
            <a:ext cx="928800" cy="1143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ая соединительная линия 172"/>
          <p:cNvSpPr/>
          <p:nvPr/>
        </p:nvSpPr>
        <p:spPr>
          <a:xfrm flipV="1">
            <a:off x="3016080" y="2576520"/>
            <a:ext cx="743040" cy="193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ая соединительная линия 175"/>
          <p:cNvSpPr/>
          <p:nvPr/>
        </p:nvSpPr>
        <p:spPr>
          <a:xfrm>
            <a:off x="3049560" y="3260880"/>
            <a:ext cx="773280" cy="371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4" descr="1669745763_1-pibig-info-p-goluboi-fon-dlya-prezentatsii-krasivo-1 (1)"/>
          <p:cNvPicPr/>
          <p:nvPr/>
        </p:nvPicPr>
        <p:blipFill>
          <a:blip r:embed="rId1"/>
          <a:stretch/>
        </p:blipFill>
        <p:spPr>
          <a:xfrm>
            <a:off x="0" y="0"/>
            <a:ext cx="9361440" cy="6121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7" descr="circuler_1"/>
          <p:cNvPicPr/>
          <p:nvPr/>
        </p:nvPicPr>
        <p:blipFill>
          <a:blip r:embed="rId2"/>
          <a:stretch/>
        </p:blipFill>
        <p:spPr>
          <a:xfrm rot="4253400">
            <a:off x="135720" y="1235880"/>
            <a:ext cx="3254400" cy="3249360"/>
          </a:xfrm>
          <a:prstGeom prst="rect">
            <a:avLst/>
          </a:prstGeom>
          <a:ln w="0">
            <a:noFill/>
          </a:ln>
        </p:spPr>
      </p:pic>
      <p:pic>
        <p:nvPicPr>
          <p:cNvPr id="608" name="Oval 158" descr=""/>
          <p:cNvPicPr/>
          <p:nvPr/>
        </p:nvPicPr>
        <p:blipFill>
          <a:blip r:embed="rId3"/>
          <a:stretch/>
        </p:blipFill>
        <p:spPr>
          <a:xfrm>
            <a:off x="144360" y="1189080"/>
            <a:ext cx="3313080" cy="342108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111"/>
          <p:cNvSpPr/>
          <p:nvPr/>
        </p:nvSpPr>
        <p:spPr>
          <a:xfrm rot="796800">
            <a:off x="700200" y="2546280"/>
            <a:ext cx="23256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160"/>
          <p:cNvGrpSpPr/>
          <p:nvPr/>
        </p:nvGrpSpPr>
        <p:grpSpPr>
          <a:xfrm>
            <a:off x="115200" y="2367000"/>
            <a:ext cx="1145880" cy="1600200"/>
            <a:chOff x="115200" y="2367000"/>
            <a:chExt cx="1145880" cy="1600200"/>
          </a:xfrm>
        </p:grpSpPr>
        <p:sp>
          <p:nvSpPr>
            <p:cNvPr id="611" name="AutoShape 161"/>
            <p:cNvSpPr/>
            <p:nvPr/>
          </p:nvSpPr>
          <p:spPr>
            <a:xfrm flipH="1" flipV="1" rot="8218800">
              <a:off x="531720" y="2787840"/>
              <a:ext cx="361440" cy="121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AutoShape 162"/>
            <p:cNvSpPr/>
            <p:nvPr/>
          </p:nvSpPr>
          <p:spPr>
            <a:xfrm flipH="1" flipV="1" rot="9034200">
              <a:off x="398520" y="2634480"/>
              <a:ext cx="361080" cy="121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AutoShape 163"/>
            <p:cNvSpPr/>
            <p:nvPr/>
          </p:nvSpPr>
          <p:spPr>
            <a:xfrm flipH="1" flipV="1" rot="9330000">
              <a:off x="351000" y="2526480"/>
              <a:ext cx="361440" cy="121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utoShape 164"/>
            <p:cNvSpPr/>
            <p:nvPr/>
          </p:nvSpPr>
          <p:spPr>
            <a:xfrm flipH="1" flipV="1" rot="9862200">
              <a:off x="300240" y="2392560"/>
              <a:ext cx="361440" cy="121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165"/>
          <p:cNvGrpSpPr/>
          <p:nvPr/>
        </p:nvGrpSpPr>
        <p:grpSpPr>
          <a:xfrm>
            <a:off x="161280" y="2013480"/>
            <a:ext cx="766080" cy="1716480"/>
            <a:chOff x="161280" y="2013480"/>
            <a:chExt cx="766080" cy="1716480"/>
          </a:xfrm>
        </p:grpSpPr>
        <p:sp>
          <p:nvSpPr>
            <p:cNvPr id="616" name="AutoShape 166"/>
            <p:cNvSpPr/>
            <p:nvPr/>
          </p:nvSpPr>
          <p:spPr>
            <a:xfrm flipH="1" flipV="1" rot="9572400">
              <a:off x="362880" y="2484360"/>
              <a:ext cx="362520" cy="122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utoShape 167"/>
            <p:cNvSpPr/>
            <p:nvPr/>
          </p:nvSpPr>
          <p:spPr>
            <a:xfrm flipH="1" flipV="1" rot="10387800">
              <a:off x="299160" y="2291760"/>
              <a:ext cx="362880" cy="122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168"/>
            <p:cNvSpPr/>
            <p:nvPr/>
          </p:nvSpPr>
          <p:spPr>
            <a:xfrm flipH="1" flipV="1" rot="10683600">
              <a:off x="297360" y="2172600"/>
              <a:ext cx="362880" cy="122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utoShape 169"/>
            <p:cNvSpPr/>
            <p:nvPr/>
          </p:nvSpPr>
          <p:spPr>
            <a:xfrm flipH="1" flipV="1" rot="11215800">
              <a:off x="300240" y="2030760"/>
              <a:ext cx="362880" cy="122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Arc 170"/>
          <p:cNvSpPr/>
          <p:nvPr/>
        </p:nvSpPr>
        <p:spPr>
          <a:xfrm flipH="1" rot="406800">
            <a:off x="0" y="1174320"/>
            <a:ext cx="3535200" cy="334008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Заголовок 4"/>
          <p:cNvSpPr/>
          <p:nvPr/>
        </p:nvSpPr>
        <p:spPr>
          <a:xfrm>
            <a:off x="1657440" y="56520"/>
            <a:ext cx="6634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ЧНА КУЛЬТУРА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СПО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місяців 2024 ро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26"/>
          <p:cNvSpPr/>
          <p:nvPr/>
        </p:nvSpPr>
        <p:spPr>
          <a:xfrm>
            <a:off x="360360" y="2052720"/>
            <a:ext cx="263376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тримання спортивних закладів, проведення спортивних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і молодіжних заходів  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7993,8 тис. гр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27"/>
          <p:cNvSpPr/>
          <p:nvPr/>
        </p:nvSpPr>
        <p:spPr>
          <a:xfrm>
            <a:off x="2616120" y="5889600"/>
            <a:ext cx="6745320" cy="65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28"/>
          <p:cNvSpPr/>
          <p:nvPr/>
        </p:nvSpPr>
        <p:spPr>
          <a:xfrm>
            <a:off x="0" y="5889600"/>
            <a:ext cx="1878120" cy="65160"/>
          </a:xfrm>
          <a:prstGeom prst="rect">
            <a:avLst/>
          </a:prstGeom>
          <a:solidFill>
            <a:srgbClr val="3366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29" descr="7077718"/>
          <p:cNvPicPr/>
          <p:nvPr/>
        </p:nvPicPr>
        <p:blipFill>
          <a:blip r:embed="rId4"/>
          <a:stretch/>
        </p:blipFill>
        <p:spPr>
          <a:xfrm>
            <a:off x="1954080" y="5607000"/>
            <a:ext cx="588960" cy="514440"/>
          </a:xfrm>
          <a:prstGeom prst="rect">
            <a:avLst/>
          </a:prstGeom>
          <a:ln w="0">
            <a:noFill/>
          </a:ln>
        </p:spPr>
      </p:pic>
      <p:sp>
        <p:nvSpPr>
          <p:cNvPr id="626" name="Прямая соединительная линия 172"/>
          <p:cNvSpPr/>
          <p:nvPr/>
        </p:nvSpPr>
        <p:spPr>
          <a:xfrm flipV="1">
            <a:off x="2627280" y="1203120"/>
            <a:ext cx="189000" cy="16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Google Shape;101;p25" descr=""/>
          <p:cNvPicPr/>
          <p:nvPr/>
        </p:nvPicPr>
        <p:blipFill>
          <a:blip r:embed="rId5"/>
          <a:srcRect l="0" t="34590" r="0" b="0"/>
          <a:stretch/>
        </p:blipFill>
        <p:spPr>
          <a:xfrm>
            <a:off x="0" y="0"/>
            <a:ext cx="1143000" cy="665280"/>
          </a:xfrm>
          <a:prstGeom prst="rect">
            <a:avLst/>
          </a:prstGeom>
          <a:ln w="0">
            <a:noFill/>
          </a:ln>
        </p:spPr>
      </p:pic>
      <p:sp>
        <p:nvSpPr>
          <p:cNvPr id="628" name="AutoShape 173"/>
          <p:cNvSpPr/>
          <p:nvPr/>
        </p:nvSpPr>
        <p:spPr>
          <a:xfrm>
            <a:off x="5564160" y="1198440"/>
            <a:ext cx="3797280" cy="449280"/>
          </a:xfr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имання ПНЗ «Дитячо-юнацька спортивна школ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173"/>
          <p:cNvSpPr/>
          <p:nvPr/>
        </p:nvSpPr>
        <p:spPr>
          <a:xfrm>
            <a:off x="5640480" y="4687920"/>
            <a:ext cx="3720960" cy="468360"/>
          </a:xfr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имання КБУ «ФСК ім. В.М.Шкуренко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70"/>
          <p:cNvSpPr/>
          <p:nvPr/>
        </p:nvSpPr>
        <p:spPr>
          <a:xfrm>
            <a:off x="2577960" y="4030560"/>
            <a:ext cx="1614600" cy="1339920"/>
          </a:xfrm>
          <a:prstGeom prst="ellipse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122"/>
          <p:cNvGrpSpPr/>
          <p:nvPr/>
        </p:nvGrpSpPr>
        <p:grpSpPr>
          <a:xfrm>
            <a:off x="2616120" y="4071960"/>
            <a:ext cx="1531440" cy="1337040"/>
            <a:chOff x="2616120" y="4071960"/>
            <a:chExt cx="1531440" cy="1337040"/>
          </a:xfrm>
        </p:grpSpPr>
        <p:pic>
          <p:nvPicPr>
            <p:cNvPr id="632" name="Picture 72" descr="circuler_1"/>
            <p:cNvPicPr/>
            <p:nvPr/>
          </p:nvPicPr>
          <p:blipFill>
            <a:blip r:embed="rId6"/>
            <a:stretch/>
          </p:blipFill>
          <p:spPr>
            <a:xfrm>
              <a:off x="2625480" y="4071960"/>
              <a:ext cx="1512720" cy="12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Oval 73"/>
            <p:cNvSpPr/>
            <p:nvPr/>
          </p:nvSpPr>
          <p:spPr>
            <a:xfrm>
              <a:off x="2616120" y="4088880"/>
              <a:ext cx="1522080" cy="1262520"/>
            </a:xfrm>
            <a:prstGeom prst="ellipse">
              <a:avLst/>
            </a:prstGeom>
            <a:solidFill>
              <a:srgbClr val="0f6f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4" name="Picture 74" descr="light_shadow1"/>
            <p:cNvPicPr/>
            <p:nvPr/>
          </p:nvPicPr>
          <p:blipFill>
            <a:blip r:embed="rId7"/>
            <a:srcRect l="0" t="14273" r="0" b="0"/>
            <a:stretch/>
          </p:blipFill>
          <p:spPr>
            <a:xfrm>
              <a:off x="2616120" y="4088880"/>
              <a:ext cx="1115640" cy="786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5" name="Group 75"/>
            <p:cNvGrpSpPr/>
            <p:nvPr/>
          </p:nvGrpSpPr>
          <p:grpSpPr>
            <a:xfrm>
              <a:off x="3218040" y="4578120"/>
              <a:ext cx="929520" cy="830880"/>
              <a:chOff x="3218040" y="4578120"/>
              <a:chExt cx="929520" cy="830880"/>
            </a:xfrm>
          </p:grpSpPr>
          <p:grpSp>
            <p:nvGrpSpPr>
              <p:cNvPr id="636" name="Group 76"/>
              <p:cNvGrpSpPr/>
              <p:nvPr/>
            </p:nvGrpSpPr>
            <p:grpSpPr>
              <a:xfrm>
                <a:off x="3429720" y="4578120"/>
                <a:ext cx="717840" cy="824760"/>
                <a:chOff x="3429720" y="4578120"/>
                <a:chExt cx="717840" cy="824760"/>
              </a:xfrm>
            </p:grpSpPr>
            <p:sp>
              <p:nvSpPr>
                <p:cNvPr id="637" name="AutoShape 77"/>
                <p:cNvSpPr/>
                <p:nvPr/>
              </p:nvSpPr>
              <p:spPr>
                <a:xfrm flipH="1" flipV="1" rot="1528800">
                  <a:off x="3812400" y="4587840"/>
                  <a:ext cx="197640" cy="67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AutoShape 78"/>
                <p:cNvSpPr/>
                <p:nvPr/>
              </p:nvSpPr>
              <p:spPr>
                <a:xfrm flipH="1" flipV="1" rot="2344200">
                  <a:off x="3760560" y="4686840"/>
                  <a:ext cx="197640" cy="67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AutoShape 79"/>
                <p:cNvSpPr/>
                <p:nvPr/>
              </p:nvSpPr>
              <p:spPr>
                <a:xfrm flipH="1" flipV="1" rot="2640000">
                  <a:off x="3714480" y="4732200"/>
                  <a:ext cx="197640" cy="671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AutoShape 80"/>
                <p:cNvSpPr/>
                <p:nvPr/>
              </p:nvSpPr>
              <p:spPr>
                <a:xfrm flipH="1" flipV="1" rot="3172200">
                  <a:off x="3657240" y="4786200"/>
                  <a:ext cx="197640" cy="67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1" name="Group 81"/>
              <p:cNvGrpSpPr/>
              <p:nvPr/>
            </p:nvGrpSpPr>
            <p:grpSpPr>
              <a:xfrm>
                <a:off x="3218040" y="4790160"/>
                <a:ext cx="885240" cy="618840"/>
                <a:chOff x="3218040" y="4790160"/>
                <a:chExt cx="885240" cy="618840"/>
              </a:xfrm>
            </p:grpSpPr>
            <p:sp>
              <p:nvSpPr>
                <p:cNvPr id="642" name="AutoShape 82"/>
                <p:cNvSpPr/>
                <p:nvPr/>
              </p:nvSpPr>
              <p:spPr>
                <a:xfrm flipH="1" flipV="1" rot="2881800">
                  <a:off x="3687840" y="4752720"/>
                  <a:ext cx="198720" cy="67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AutoShape 83"/>
                <p:cNvSpPr/>
                <p:nvPr/>
              </p:nvSpPr>
              <p:spPr>
                <a:xfrm flipH="1" flipV="1" rot="3697200">
                  <a:off x="3601800" y="4824720"/>
                  <a:ext cx="198720" cy="66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AutoShape 84"/>
                <p:cNvSpPr/>
                <p:nvPr/>
              </p:nvSpPr>
              <p:spPr>
                <a:xfrm flipH="1" flipV="1" rot="3993000">
                  <a:off x="3541680" y="4848120"/>
                  <a:ext cx="198720" cy="671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AutoShape 85"/>
                <p:cNvSpPr/>
                <p:nvPr/>
              </p:nvSpPr>
              <p:spPr>
                <a:xfrm flipH="1" flipV="1" rot="4525200">
                  <a:off x="3467520" y="4875840"/>
                  <a:ext cx="198720" cy="67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46" name="Group 87"/>
          <p:cNvGrpSpPr/>
          <p:nvPr/>
        </p:nvGrpSpPr>
        <p:grpSpPr>
          <a:xfrm>
            <a:off x="3548520" y="4615200"/>
            <a:ext cx="631800" cy="725760"/>
            <a:chOff x="3548520" y="4615200"/>
            <a:chExt cx="631800" cy="725760"/>
          </a:xfrm>
        </p:grpSpPr>
        <p:sp>
          <p:nvSpPr>
            <p:cNvPr id="647" name="AutoShape 88"/>
            <p:cNvSpPr/>
            <p:nvPr/>
          </p:nvSpPr>
          <p:spPr>
            <a:xfrm flipH="1" flipV="1" rot="1528800">
              <a:off x="3884760" y="4623480"/>
              <a:ext cx="174240" cy="58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AutoShape 89"/>
            <p:cNvSpPr/>
            <p:nvPr/>
          </p:nvSpPr>
          <p:spPr>
            <a:xfrm flipH="1" flipV="1" rot="2344200">
              <a:off x="3839040" y="4710600"/>
              <a:ext cx="174240" cy="59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90"/>
            <p:cNvSpPr/>
            <p:nvPr/>
          </p:nvSpPr>
          <p:spPr>
            <a:xfrm flipH="1" flipV="1" rot="2640000">
              <a:off x="3799440" y="4750920"/>
              <a:ext cx="174240" cy="58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91"/>
            <p:cNvSpPr/>
            <p:nvPr/>
          </p:nvSpPr>
          <p:spPr>
            <a:xfrm flipH="1" flipV="1" rot="3172200">
              <a:off x="3748680" y="4798800"/>
              <a:ext cx="174240" cy="58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92"/>
          <p:cNvGrpSpPr/>
          <p:nvPr/>
        </p:nvGrpSpPr>
        <p:grpSpPr>
          <a:xfrm>
            <a:off x="3411720" y="4831200"/>
            <a:ext cx="703440" cy="510480"/>
            <a:chOff x="3411720" y="4831200"/>
            <a:chExt cx="703440" cy="510480"/>
          </a:xfrm>
        </p:grpSpPr>
        <p:sp>
          <p:nvSpPr>
            <p:cNvPr id="652" name="AutoShape 93"/>
            <p:cNvSpPr/>
            <p:nvPr/>
          </p:nvSpPr>
          <p:spPr>
            <a:xfrm flipH="1" flipV="1" rot="2882400">
              <a:off x="3755160" y="4823280"/>
              <a:ext cx="205200" cy="507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94"/>
            <p:cNvSpPr/>
            <p:nvPr/>
          </p:nvSpPr>
          <p:spPr>
            <a:xfrm flipH="1" flipV="1" rot="3697800">
              <a:off x="3689640" y="4876560"/>
              <a:ext cx="205200" cy="507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AutoShape 95"/>
            <p:cNvSpPr/>
            <p:nvPr/>
          </p:nvSpPr>
          <p:spPr>
            <a:xfrm flipH="1" flipV="1" rot="3993600">
              <a:off x="3640680" y="4892040"/>
              <a:ext cx="205200" cy="507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96"/>
            <p:cNvSpPr/>
            <p:nvPr/>
          </p:nvSpPr>
          <p:spPr>
            <a:xfrm flipH="1" flipV="1" rot="4525800">
              <a:off x="3579840" y="4907160"/>
              <a:ext cx="205200" cy="507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Rectangle 97"/>
          <p:cNvSpPr/>
          <p:nvPr/>
        </p:nvSpPr>
        <p:spPr>
          <a:xfrm>
            <a:off x="2865600" y="4260960"/>
            <a:ext cx="10580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47,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. гр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173"/>
          <p:cNvSpPr/>
          <p:nvPr/>
        </p:nvSpPr>
        <p:spPr>
          <a:xfrm>
            <a:off x="5570640" y="2610000"/>
            <a:ext cx="3790800" cy="449280"/>
          </a:xfr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ізація спортивних програм і молодіжних заході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ая соединительная линия 175"/>
          <p:cNvSpPr/>
          <p:nvPr/>
        </p:nvSpPr>
        <p:spPr>
          <a:xfrm>
            <a:off x="3059280" y="2500200"/>
            <a:ext cx="693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175"/>
          <p:cNvSpPr/>
          <p:nvPr/>
        </p:nvSpPr>
        <p:spPr>
          <a:xfrm>
            <a:off x="2124000" y="3651120"/>
            <a:ext cx="378000" cy="270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70"/>
          <p:cNvSpPr/>
          <p:nvPr/>
        </p:nvSpPr>
        <p:spPr>
          <a:xfrm>
            <a:off x="3797280" y="2290680"/>
            <a:ext cx="1616040" cy="1339920"/>
          </a:xfrm>
          <a:prstGeom prst="ellipse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72" descr="circuler_1"/>
          <p:cNvPicPr/>
          <p:nvPr/>
        </p:nvPicPr>
        <p:blipFill>
          <a:blip r:embed="rId8"/>
          <a:stretch/>
        </p:blipFill>
        <p:spPr>
          <a:xfrm>
            <a:off x="3844800" y="2332080"/>
            <a:ext cx="1513080" cy="1258920"/>
          </a:xfrm>
          <a:prstGeom prst="rect">
            <a:avLst/>
          </a:prstGeom>
          <a:ln w="0">
            <a:noFill/>
          </a:ln>
        </p:spPr>
      </p:pic>
      <p:sp>
        <p:nvSpPr>
          <p:cNvPr id="662" name="Oval 73"/>
          <p:cNvSpPr/>
          <p:nvPr/>
        </p:nvSpPr>
        <p:spPr>
          <a:xfrm>
            <a:off x="3844800" y="2332080"/>
            <a:ext cx="1524240" cy="1263600"/>
          </a:xfrm>
          <a:prstGeom prst="ellipse">
            <a:avLst/>
          </a:prstGeom>
          <a:solidFill>
            <a:srgbClr val="0f6fc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74" descr="light_shadow1"/>
          <p:cNvPicPr/>
          <p:nvPr/>
        </p:nvPicPr>
        <p:blipFill>
          <a:blip r:embed="rId9"/>
          <a:srcRect l="0" t="14273" r="0" b="0"/>
          <a:stretch/>
        </p:blipFill>
        <p:spPr>
          <a:xfrm>
            <a:off x="3859200" y="2384280"/>
            <a:ext cx="1116000" cy="787680"/>
          </a:xfrm>
          <a:prstGeom prst="rect">
            <a:avLst/>
          </a:prstGeom>
          <a:ln w="0">
            <a:noFill/>
          </a:ln>
        </p:spPr>
      </p:pic>
      <p:grpSp>
        <p:nvGrpSpPr>
          <p:cNvPr id="664" name="Group 75"/>
          <p:cNvGrpSpPr/>
          <p:nvPr/>
        </p:nvGrpSpPr>
        <p:grpSpPr>
          <a:xfrm>
            <a:off x="4438440" y="2838240"/>
            <a:ext cx="930240" cy="830880"/>
            <a:chOff x="4438440" y="2838240"/>
            <a:chExt cx="930240" cy="830880"/>
          </a:xfrm>
        </p:grpSpPr>
        <p:grpSp>
          <p:nvGrpSpPr>
            <p:cNvPr id="665" name="Group 76"/>
            <p:cNvGrpSpPr/>
            <p:nvPr/>
          </p:nvGrpSpPr>
          <p:grpSpPr>
            <a:xfrm>
              <a:off x="4649040" y="2838240"/>
              <a:ext cx="719640" cy="825840"/>
              <a:chOff x="4649040" y="2838240"/>
              <a:chExt cx="719640" cy="825840"/>
            </a:xfrm>
          </p:grpSpPr>
          <p:sp>
            <p:nvSpPr>
              <p:cNvPr id="666" name="AutoShape 77"/>
              <p:cNvSpPr/>
              <p:nvPr/>
            </p:nvSpPr>
            <p:spPr>
              <a:xfrm flipH="1" flipV="1" rot="1528800">
                <a:off x="5032440" y="2847600"/>
                <a:ext cx="198360" cy="67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320" rIns="94320" tIns="47160" bIns="4716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AutoShape 78"/>
              <p:cNvSpPr/>
              <p:nvPr/>
            </p:nvSpPr>
            <p:spPr>
              <a:xfrm flipH="1" flipV="1" rot="2344200">
                <a:off x="4980600" y="2946600"/>
                <a:ext cx="198000" cy="671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320" rIns="94320" tIns="47160" bIns="4716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AutoShape 79"/>
              <p:cNvSpPr/>
              <p:nvPr/>
            </p:nvSpPr>
            <p:spPr>
              <a:xfrm flipH="1" flipV="1" rot="2640000">
                <a:off x="4934520" y="2993040"/>
                <a:ext cx="198000" cy="671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320" rIns="94320" tIns="47160" bIns="4716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AutoShape 80"/>
              <p:cNvSpPr/>
              <p:nvPr/>
            </p:nvSpPr>
            <p:spPr>
              <a:xfrm flipH="1" flipV="1" rot="3172200">
                <a:off x="4877280" y="3047040"/>
                <a:ext cx="198000" cy="671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320" rIns="94320" tIns="47160" bIns="471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81"/>
            <p:cNvGrpSpPr/>
            <p:nvPr/>
          </p:nvGrpSpPr>
          <p:grpSpPr>
            <a:xfrm>
              <a:off x="4438440" y="3049920"/>
              <a:ext cx="884520" cy="619200"/>
              <a:chOff x="4438440" y="3049920"/>
              <a:chExt cx="884520" cy="619200"/>
            </a:xfrm>
          </p:grpSpPr>
          <p:sp>
            <p:nvSpPr>
              <p:cNvPr id="671" name="AutoShape 82"/>
              <p:cNvSpPr/>
              <p:nvPr/>
            </p:nvSpPr>
            <p:spPr>
              <a:xfrm flipH="1" flipV="1" rot="2881800">
                <a:off x="4906800" y="3012840"/>
                <a:ext cx="199080" cy="671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320" rIns="94320" tIns="47160" bIns="471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AutoShape 83"/>
              <p:cNvSpPr/>
              <p:nvPr/>
            </p:nvSpPr>
            <p:spPr>
              <a:xfrm flipH="1" flipV="1" rot="3697200">
                <a:off x="4822200" y="3083760"/>
                <a:ext cx="199080" cy="67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320" rIns="94320" tIns="47160" bIns="471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AutoShape 84"/>
              <p:cNvSpPr/>
              <p:nvPr/>
            </p:nvSpPr>
            <p:spPr>
              <a:xfrm flipH="1" flipV="1" rot="3993000">
                <a:off x="4761720" y="3108240"/>
                <a:ext cx="199080" cy="67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320" rIns="94320" tIns="47160" bIns="471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AutoShape 85"/>
              <p:cNvSpPr/>
              <p:nvPr/>
            </p:nvSpPr>
            <p:spPr>
              <a:xfrm flipH="1" flipV="1" rot="4525200">
                <a:off x="4688280" y="3135960"/>
                <a:ext cx="199080" cy="67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320" rIns="94320" tIns="47160" bIns="471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5" name="Group 87"/>
          <p:cNvGrpSpPr/>
          <p:nvPr/>
        </p:nvGrpSpPr>
        <p:grpSpPr>
          <a:xfrm>
            <a:off x="4761720" y="2880720"/>
            <a:ext cx="633600" cy="726840"/>
            <a:chOff x="4761720" y="2880720"/>
            <a:chExt cx="633600" cy="726840"/>
          </a:xfrm>
        </p:grpSpPr>
        <p:sp>
          <p:nvSpPr>
            <p:cNvPr id="676" name="AutoShape 88"/>
            <p:cNvSpPr/>
            <p:nvPr/>
          </p:nvSpPr>
          <p:spPr>
            <a:xfrm flipH="1" flipV="1" rot="1528800">
              <a:off x="5098680" y="2889360"/>
              <a:ext cx="175680" cy="59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AutoShape 89"/>
            <p:cNvSpPr/>
            <p:nvPr/>
          </p:nvSpPr>
          <p:spPr>
            <a:xfrm flipH="1" flipV="1" rot="2344200">
              <a:off x="5052960" y="2976840"/>
              <a:ext cx="175680" cy="58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AutoShape 90"/>
            <p:cNvSpPr/>
            <p:nvPr/>
          </p:nvSpPr>
          <p:spPr>
            <a:xfrm flipH="1" flipV="1" rot="2640000">
              <a:off x="5011920" y="3017520"/>
              <a:ext cx="175680" cy="58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AutoShape 91"/>
            <p:cNvSpPr/>
            <p:nvPr/>
          </p:nvSpPr>
          <p:spPr>
            <a:xfrm flipH="1" flipV="1" rot="3172200">
              <a:off x="4961520" y="3063960"/>
              <a:ext cx="175680" cy="58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92"/>
          <p:cNvGrpSpPr/>
          <p:nvPr/>
        </p:nvGrpSpPr>
        <p:grpSpPr>
          <a:xfrm>
            <a:off x="4632480" y="3089880"/>
            <a:ext cx="704160" cy="512280"/>
            <a:chOff x="4632480" y="3089880"/>
            <a:chExt cx="704160" cy="512280"/>
          </a:xfrm>
        </p:grpSpPr>
        <p:sp>
          <p:nvSpPr>
            <p:cNvPr id="681" name="AutoShape 93"/>
            <p:cNvSpPr/>
            <p:nvPr/>
          </p:nvSpPr>
          <p:spPr>
            <a:xfrm flipH="1" flipV="1" rot="2882400">
              <a:off x="4974840" y="3082320"/>
              <a:ext cx="206640" cy="50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AutoShape 94"/>
            <p:cNvSpPr/>
            <p:nvPr/>
          </p:nvSpPr>
          <p:spPr>
            <a:xfrm flipH="1" flipV="1" rot="3697800">
              <a:off x="4909320" y="3136320"/>
              <a:ext cx="206640" cy="507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AutoShape 95"/>
            <p:cNvSpPr/>
            <p:nvPr/>
          </p:nvSpPr>
          <p:spPr>
            <a:xfrm flipH="1" flipV="1" rot="3993600">
              <a:off x="4860720" y="3151440"/>
              <a:ext cx="206640" cy="507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96"/>
            <p:cNvSpPr/>
            <p:nvPr/>
          </p:nvSpPr>
          <p:spPr>
            <a:xfrm flipH="1" flipV="1" rot="4525800">
              <a:off x="4800240" y="3166200"/>
              <a:ext cx="206640" cy="507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Rectangle 97"/>
          <p:cNvSpPr/>
          <p:nvPr/>
        </p:nvSpPr>
        <p:spPr>
          <a:xfrm>
            <a:off x="4060800" y="2546280"/>
            <a:ext cx="106200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1,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. гр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70"/>
          <p:cNvSpPr/>
          <p:nvPr/>
        </p:nvSpPr>
        <p:spPr>
          <a:xfrm>
            <a:off x="2763720" y="833400"/>
            <a:ext cx="1617840" cy="1341360"/>
          </a:xfrm>
          <a:prstGeom prst="ellipse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71"/>
          <p:cNvGrpSpPr/>
          <p:nvPr/>
        </p:nvGrpSpPr>
        <p:grpSpPr>
          <a:xfrm>
            <a:off x="2838600" y="833400"/>
            <a:ext cx="1522440" cy="1337040"/>
            <a:chOff x="2838600" y="833400"/>
            <a:chExt cx="1522440" cy="1337040"/>
          </a:xfrm>
        </p:grpSpPr>
        <p:pic>
          <p:nvPicPr>
            <p:cNvPr id="688" name="Picture 72" descr="circuler_1"/>
            <p:cNvPicPr/>
            <p:nvPr/>
          </p:nvPicPr>
          <p:blipFill>
            <a:blip r:embed="rId10"/>
            <a:stretch/>
          </p:blipFill>
          <p:spPr>
            <a:xfrm>
              <a:off x="2838600" y="833400"/>
              <a:ext cx="1512720" cy="12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Oval 73"/>
            <p:cNvSpPr/>
            <p:nvPr/>
          </p:nvSpPr>
          <p:spPr>
            <a:xfrm>
              <a:off x="2838600" y="833400"/>
              <a:ext cx="1522080" cy="1262520"/>
            </a:xfrm>
            <a:prstGeom prst="ellipse">
              <a:avLst/>
            </a:prstGeom>
            <a:solidFill>
              <a:srgbClr val="0f6f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0" name="Picture 74" descr="light_shadow1"/>
            <p:cNvPicPr/>
            <p:nvPr/>
          </p:nvPicPr>
          <p:blipFill>
            <a:blip r:embed="rId11"/>
            <a:srcRect l="0" t="14273" r="0" b="0"/>
            <a:stretch/>
          </p:blipFill>
          <p:spPr>
            <a:xfrm>
              <a:off x="2853000" y="885960"/>
              <a:ext cx="1115280" cy="78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1" name="Group 75"/>
            <p:cNvGrpSpPr/>
            <p:nvPr/>
          </p:nvGrpSpPr>
          <p:grpSpPr>
            <a:xfrm>
              <a:off x="3431160" y="1339560"/>
              <a:ext cx="929880" cy="830880"/>
              <a:chOff x="3431160" y="1339560"/>
              <a:chExt cx="929880" cy="830880"/>
            </a:xfrm>
          </p:grpSpPr>
          <p:grpSp>
            <p:nvGrpSpPr>
              <p:cNvPr id="692" name="Group 76"/>
              <p:cNvGrpSpPr/>
              <p:nvPr/>
            </p:nvGrpSpPr>
            <p:grpSpPr>
              <a:xfrm>
                <a:off x="3641400" y="1339560"/>
                <a:ext cx="719640" cy="825840"/>
                <a:chOff x="3641400" y="1339560"/>
                <a:chExt cx="719640" cy="825840"/>
              </a:xfrm>
            </p:grpSpPr>
            <p:sp>
              <p:nvSpPr>
                <p:cNvPr id="693" name="AutoShape 77"/>
                <p:cNvSpPr/>
                <p:nvPr/>
              </p:nvSpPr>
              <p:spPr>
                <a:xfrm flipH="1" flipV="1" rot="1528800">
                  <a:off x="4024800" y="1348920"/>
                  <a:ext cx="198360" cy="67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AutoShape 78"/>
                <p:cNvSpPr/>
                <p:nvPr/>
              </p:nvSpPr>
              <p:spPr>
                <a:xfrm flipH="1" flipV="1" rot="2344200">
                  <a:off x="3972960" y="1447920"/>
                  <a:ext cx="198000" cy="671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AutoShape 79"/>
                <p:cNvSpPr/>
                <p:nvPr/>
              </p:nvSpPr>
              <p:spPr>
                <a:xfrm flipH="1" flipV="1" rot="2640000">
                  <a:off x="3926880" y="1494360"/>
                  <a:ext cx="198000" cy="671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AutoShape 80"/>
                <p:cNvSpPr/>
                <p:nvPr/>
              </p:nvSpPr>
              <p:spPr>
                <a:xfrm flipH="1" flipV="1" rot="3172200">
                  <a:off x="3869640" y="1548360"/>
                  <a:ext cx="198000" cy="671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Group 81"/>
              <p:cNvGrpSpPr/>
              <p:nvPr/>
            </p:nvGrpSpPr>
            <p:grpSpPr>
              <a:xfrm>
                <a:off x="3431160" y="1551240"/>
                <a:ext cx="884520" cy="619200"/>
                <a:chOff x="3431160" y="1551240"/>
                <a:chExt cx="884520" cy="619200"/>
              </a:xfrm>
            </p:grpSpPr>
            <p:sp>
              <p:nvSpPr>
                <p:cNvPr id="698" name="AutoShape 82"/>
                <p:cNvSpPr/>
                <p:nvPr/>
              </p:nvSpPr>
              <p:spPr>
                <a:xfrm flipH="1" flipV="1" rot="2881800">
                  <a:off x="3899520" y="1514160"/>
                  <a:ext cx="199080" cy="671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AutoShape 83"/>
                <p:cNvSpPr/>
                <p:nvPr/>
              </p:nvSpPr>
              <p:spPr>
                <a:xfrm flipH="1" flipV="1" rot="3697200">
                  <a:off x="3814920" y="1585080"/>
                  <a:ext cx="199080" cy="67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AutoShape 84"/>
                <p:cNvSpPr/>
                <p:nvPr/>
              </p:nvSpPr>
              <p:spPr>
                <a:xfrm flipH="1" flipV="1" rot="3993000">
                  <a:off x="3754440" y="1609560"/>
                  <a:ext cx="199080" cy="67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AutoShape 85"/>
                <p:cNvSpPr/>
                <p:nvPr/>
              </p:nvSpPr>
              <p:spPr>
                <a:xfrm flipH="1" flipV="1" rot="4525200">
                  <a:off x="3681000" y="1637280"/>
                  <a:ext cx="199080" cy="67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320" rIns="94320" tIns="47160" bIns="4716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4640"/>
                      <a:tab algn="l" pos="1889280"/>
                      <a:tab algn="l" pos="2833560"/>
                      <a:tab algn="l" pos="3778200"/>
                      <a:tab algn="l" pos="4722840"/>
                      <a:tab algn="l" pos="5667480"/>
                      <a:tab algn="l" pos="6611760"/>
                      <a:tab algn="l" pos="7556400"/>
                      <a:tab algn="l" pos="8501040"/>
                      <a:tab algn="l" pos="9445680"/>
                      <a:tab algn="l" pos="1039032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2" name="Group 86"/>
          <p:cNvGrpSpPr/>
          <p:nvPr/>
        </p:nvGrpSpPr>
        <p:grpSpPr>
          <a:xfrm>
            <a:off x="3614040" y="1386360"/>
            <a:ext cx="818640" cy="731520"/>
            <a:chOff x="3614040" y="1386360"/>
            <a:chExt cx="818640" cy="731520"/>
          </a:xfrm>
        </p:grpSpPr>
        <p:grpSp>
          <p:nvGrpSpPr>
            <p:cNvPr id="703" name="Group 87"/>
            <p:cNvGrpSpPr/>
            <p:nvPr/>
          </p:nvGrpSpPr>
          <p:grpSpPr>
            <a:xfrm>
              <a:off x="3799800" y="1386360"/>
              <a:ext cx="632880" cy="726480"/>
              <a:chOff x="3799800" y="1386360"/>
              <a:chExt cx="632880" cy="726480"/>
            </a:xfrm>
          </p:grpSpPr>
          <p:sp>
            <p:nvSpPr>
              <p:cNvPr id="704" name="AutoShape 88"/>
              <p:cNvSpPr/>
              <p:nvPr/>
            </p:nvSpPr>
            <p:spPr>
              <a:xfrm flipH="1" flipV="1" rot="1528800">
                <a:off x="4136400" y="1394640"/>
                <a:ext cx="174960" cy="59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320" rIns="94320" tIns="47160" bIns="4716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AutoShape 89"/>
              <p:cNvSpPr/>
              <p:nvPr/>
            </p:nvSpPr>
            <p:spPr>
              <a:xfrm flipH="1" flipV="1" rot="2344200">
                <a:off x="4091400" y="1482480"/>
                <a:ext cx="174960" cy="590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320" rIns="94320" tIns="47160" bIns="4716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AutoShape 90"/>
              <p:cNvSpPr/>
              <p:nvPr/>
            </p:nvSpPr>
            <p:spPr>
              <a:xfrm flipH="1" flipV="1" rot="2640000">
                <a:off x="4050000" y="1522440"/>
                <a:ext cx="175320" cy="590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320" rIns="94320" tIns="47160" bIns="4716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utoShape 91"/>
              <p:cNvSpPr/>
              <p:nvPr/>
            </p:nvSpPr>
            <p:spPr>
              <a:xfrm flipH="1" flipV="1" rot="3172200">
                <a:off x="4000320" y="1569960"/>
                <a:ext cx="174600" cy="590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320" rIns="94320" tIns="47160" bIns="4716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Group 92"/>
            <p:cNvGrpSpPr/>
            <p:nvPr/>
          </p:nvGrpSpPr>
          <p:grpSpPr>
            <a:xfrm>
              <a:off x="3614040" y="1572840"/>
              <a:ext cx="779040" cy="545040"/>
              <a:chOff x="3614040" y="1572840"/>
              <a:chExt cx="779040" cy="545040"/>
            </a:xfrm>
          </p:grpSpPr>
          <p:sp>
            <p:nvSpPr>
              <p:cNvPr id="709" name="AutoShape 93"/>
              <p:cNvSpPr/>
              <p:nvPr/>
            </p:nvSpPr>
            <p:spPr>
              <a:xfrm flipH="1" flipV="1" rot="2881800">
                <a:off x="4026600" y="1540080"/>
                <a:ext cx="175680" cy="590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320" rIns="94320" tIns="47160" bIns="4716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AutoShape 94"/>
              <p:cNvSpPr/>
              <p:nvPr/>
            </p:nvSpPr>
            <p:spPr>
              <a:xfrm flipH="1" flipV="1" rot="3697200">
                <a:off x="3950640" y="1603080"/>
                <a:ext cx="175680" cy="58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320" rIns="94320" tIns="47160" bIns="4716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AutoShape 95"/>
              <p:cNvSpPr/>
              <p:nvPr/>
            </p:nvSpPr>
            <p:spPr>
              <a:xfrm flipH="1" flipV="1" rot="3993000">
                <a:off x="3897360" y="1624680"/>
                <a:ext cx="175680" cy="58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320" rIns="94320" tIns="47160" bIns="4716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AutoShape 96"/>
              <p:cNvSpPr/>
              <p:nvPr/>
            </p:nvSpPr>
            <p:spPr>
              <a:xfrm flipH="1" flipV="1" rot="4525200">
                <a:off x="3833640" y="1648440"/>
                <a:ext cx="175680" cy="58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320" rIns="94320" tIns="47160" bIns="4716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4640"/>
                    <a:tab algn="l" pos="1889280"/>
                    <a:tab algn="l" pos="2833560"/>
                    <a:tab algn="l" pos="3778200"/>
                    <a:tab algn="l" pos="4722840"/>
                    <a:tab algn="l" pos="5667480"/>
                    <a:tab algn="l" pos="6611760"/>
                    <a:tab algn="l" pos="7556400"/>
                    <a:tab algn="l" pos="8501040"/>
                    <a:tab algn="l" pos="9445680"/>
                    <a:tab algn="l" pos="1039032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Rectangle 97"/>
          <p:cNvSpPr/>
          <p:nvPr/>
        </p:nvSpPr>
        <p:spPr>
          <a:xfrm>
            <a:off x="3088440" y="1090440"/>
            <a:ext cx="1025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357,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. гр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28"/>
          <p:cNvSpPr/>
          <p:nvPr/>
        </p:nvSpPr>
        <p:spPr>
          <a:xfrm>
            <a:off x="0" y="5889600"/>
            <a:ext cx="1878120" cy="65160"/>
          </a:xfrm>
          <a:prstGeom prst="rect">
            <a:avLst/>
          </a:prstGeom>
          <a:solidFill>
            <a:srgbClr val="3366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29" descr="7077718"/>
          <p:cNvPicPr/>
          <p:nvPr/>
        </p:nvPicPr>
        <p:blipFill>
          <a:blip r:embed="rId12"/>
          <a:stretch/>
        </p:blipFill>
        <p:spPr>
          <a:xfrm>
            <a:off x="1954080" y="5607000"/>
            <a:ext cx="588960" cy="51444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27"/>
          <p:cNvSpPr/>
          <p:nvPr/>
        </p:nvSpPr>
        <p:spPr>
          <a:xfrm>
            <a:off x="2616120" y="5781600"/>
            <a:ext cx="6745320" cy="17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8"/>
          <p:cNvSpPr/>
          <p:nvPr/>
        </p:nvSpPr>
        <p:spPr>
          <a:xfrm>
            <a:off x="0" y="5781600"/>
            <a:ext cx="1878120" cy="173160"/>
          </a:xfrm>
          <a:prstGeom prst="rect">
            <a:avLst/>
          </a:prstGeom>
          <a:solidFill>
            <a:srgbClr val="3366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29" descr="7077718"/>
          <p:cNvPicPr/>
          <p:nvPr/>
        </p:nvPicPr>
        <p:blipFill>
          <a:blip r:embed="rId13"/>
          <a:stretch/>
        </p:blipFill>
        <p:spPr>
          <a:xfrm>
            <a:off x="1954080" y="5607000"/>
            <a:ext cx="588960" cy="514440"/>
          </a:xfrm>
          <a:prstGeom prst="rect">
            <a:avLst/>
          </a:prstGeom>
          <a:ln w="0">
            <a:noFill/>
          </a:ln>
        </p:spPr>
      </p:pic>
      <p:sp>
        <p:nvSpPr>
          <p:cNvPr id="719" name="Text Box 448"/>
          <p:cNvSpPr/>
          <p:nvPr/>
        </p:nvSpPr>
        <p:spPr>
          <a:xfrm>
            <a:off x="8882280" y="0"/>
            <a:ext cx="2851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4" descr="1669745763_1-pibig-info-p-goluboi-fon-dlya-prezentatsii-krasivo-1 (1)"/>
          <p:cNvPicPr/>
          <p:nvPr/>
        </p:nvPicPr>
        <p:blipFill>
          <a:blip r:embed="rId1"/>
          <a:stretch/>
        </p:blipFill>
        <p:spPr>
          <a:xfrm>
            <a:off x="0" y="0"/>
            <a:ext cx="9361440" cy="6121440"/>
          </a:xfrm>
          <a:prstGeom prst="rect">
            <a:avLst/>
          </a:prstGeom>
          <a:ln w="0">
            <a:noFill/>
          </a:ln>
        </p:spPr>
      </p:pic>
      <p:pic>
        <p:nvPicPr>
          <p:cNvPr id="721" name="Google Shape;101;p25" descr=""/>
          <p:cNvPicPr/>
          <p:nvPr/>
        </p:nvPicPr>
        <p:blipFill>
          <a:blip r:embed="rId2"/>
          <a:srcRect l="0" t="34590" r="0" b="0"/>
          <a:stretch/>
        </p:blipFill>
        <p:spPr>
          <a:xfrm>
            <a:off x="0" y="0"/>
            <a:ext cx="1297080" cy="754200"/>
          </a:xfrm>
          <a:prstGeom prst="rect">
            <a:avLst/>
          </a:prstGeom>
          <a:ln w="0">
            <a:noFill/>
          </a:ln>
        </p:spPr>
      </p:pic>
      <p:sp>
        <p:nvSpPr>
          <p:cNvPr id="722" name="Заголовок 4"/>
          <p:cNvSpPr/>
          <p:nvPr/>
        </p:nvSpPr>
        <p:spPr>
          <a:xfrm>
            <a:off x="1878120" y="147600"/>
            <a:ext cx="6858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місяців 2024 ро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Oval 158" descr=""/>
          <p:cNvPicPr/>
          <p:nvPr/>
        </p:nvPicPr>
        <p:blipFill>
          <a:blip r:embed="rId3"/>
          <a:stretch/>
        </p:blipFill>
        <p:spPr>
          <a:xfrm>
            <a:off x="108000" y="774720"/>
            <a:ext cx="1887480" cy="185724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87"/>
          <p:cNvSpPr/>
          <p:nvPr/>
        </p:nvSpPr>
        <p:spPr>
          <a:xfrm rot="796800">
            <a:off x="225360" y="3705120"/>
            <a:ext cx="133524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173"/>
          <p:cNvSpPr/>
          <p:nvPr/>
        </p:nvSpPr>
        <p:spPr>
          <a:xfrm>
            <a:off x="5454720" y="1519200"/>
            <a:ext cx="3906720" cy="8985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я культурно-мистецьких заходів, фестивалів, конкурсів, ярмарок, марафонів, державних свя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173"/>
          <p:cNvSpPr/>
          <p:nvPr/>
        </p:nvSpPr>
        <p:spPr>
          <a:xfrm>
            <a:off x="5467320" y="4060800"/>
            <a:ext cx="3686040" cy="59364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влення  матеріально – технічної  бази закладів  культур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86"/>
          <p:cNvSpPr/>
          <p:nvPr/>
        </p:nvSpPr>
        <p:spPr>
          <a:xfrm>
            <a:off x="1363680" y="2354400"/>
            <a:ext cx="21384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ціальний захист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емих категорій населення»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710,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. гр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87"/>
          <p:cNvSpPr/>
          <p:nvPr/>
        </p:nvSpPr>
        <p:spPr>
          <a:xfrm>
            <a:off x="2616120" y="5781600"/>
            <a:ext cx="6745320" cy="17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88"/>
          <p:cNvSpPr/>
          <p:nvPr/>
        </p:nvSpPr>
        <p:spPr>
          <a:xfrm>
            <a:off x="0" y="5781600"/>
            <a:ext cx="1878120" cy="173160"/>
          </a:xfrm>
          <a:prstGeom prst="rect">
            <a:avLst/>
          </a:prstGeom>
          <a:solidFill>
            <a:srgbClr val="3366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89" descr="7077718"/>
          <p:cNvPicPr/>
          <p:nvPr/>
        </p:nvPicPr>
        <p:blipFill>
          <a:blip r:embed="rId4"/>
          <a:stretch/>
        </p:blipFill>
        <p:spPr>
          <a:xfrm>
            <a:off x="1954080" y="5607000"/>
            <a:ext cx="588960" cy="5144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57" descr="circuler_1"/>
          <p:cNvPicPr/>
          <p:nvPr/>
        </p:nvPicPr>
        <p:blipFill>
          <a:blip r:embed="rId5"/>
          <a:stretch/>
        </p:blipFill>
        <p:spPr>
          <a:xfrm rot="21426000">
            <a:off x="863280" y="1915920"/>
            <a:ext cx="3144960" cy="296676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73"/>
          <p:cNvSpPr/>
          <p:nvPr/>
        </p:nvSpPr>
        <p:spPr>
          <a:xfrm rot="17969400">
            <a:off x="1863720" y="2596680"/>
            <a:ext cx="167940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160"/>
          <p:cNvGrpSpPr/>
          <p:nvPr/>
        </p:nvGrpSpPr>
        <p:grpSpPr>
          <a:xfrm>
            <a:off x="1676880" y="3546360"/>
            <a:ext cx="1810440" cy="874080"/>
            <a:chOff x="1676880" y="3546360"/>
            <a:chExt cx="1810440" cy="874080"/>
          </a:xfrm>
        </p:grpSpPr>
        <p:sp>
          <p:nvSpPr>
            <p:cNvPr id="734" name="AutoShape 161"/>
            <p:cNvSpPr/>
            <p:nvPr/>
          </p:nvSpPr>
          <p:spPr>
            <a:xfrm flipH="1" flipV="1" rot="3791400">
              <a:off x="2670120" y="3316320"/>
              <a:ext cx="306000" cy="133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AutoShape 162"/>
            <p:cNvSpPr/>
            <p:nvPr/>
          </p:nvSpPr>
          <p:spPr>
            <a:xfrm flipH="1" flipV="1" rot="4607400">
              <a:off x="2467440" y="3408840"/>
              <a:ext cx="305640" cy="1333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AutoShape 163"/>
            <p:cNvSpPr/>
            <p:nvPr/>
          </p:nvSpPr>
          <p:spPr>
            <a:xfrm flipH="1" flipV="1" rot="4902600">
              <a:off x="2342160" y="3431880"/>
              <a:ext cx="306000" cy="133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AutoShape 164"/>
            <p:cNvSpPr/>
            <p:nvPr/>
          </p:nvSpPr>
          <p:spPr>
            <a:xfrm flipH="1" flipV="1" rot="5434800">
              <a:off x="2192040" y="3457080"/>
              <a:ext cx="306000" cy="1333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8" name="Picture 157" descr="circuler_1"/>
          <p:cNvPicPr/>
          <p:nvPr/>
        </p:nvPicPr>
        <p:blipFill>
          <a:blip r:embed="rId6"/>
          <a:stretch/>
        </p:blipFill>
        <p:spPr>
          <a:xfrm rot="4253400">
            <a:off x="3636720" y="1338120"/>
            <a:ext cx="1204920" cy="1233360"/>
          </a:xfrm>
          <a:prstGeom prst="rect">
            <a:avLst/>
          </a:prstGeom>
          <a:ln w="0">
            <a:noFill/>
          </a:ln>
        </p:spPr>
      </p:pic>
      <p:grpSp>
        <p:nvGrpSpPr>
          <p:cNvPr id="739" name="Group 160"/>
          <p:cNvGrpSpPr/>
          <p:nvPr/>
        </p:nvGrpSpPr>
        <p:grpSpPr>
          <a:xfrm>
            <a:off x="3674520" y="2458440"/>
            <a:ext cx="613440" cy="845640"/>
            <a:chOff x="3674520" y="2458440"/>
            <a:chExt cx="613440" cy="845640"/>
          </a:xfrm>
        </p:grpSpPr>
        <p:sp>
          <p:nvSpPr>
            <p:cNvPr id="740" name="AutoShape 161"/>
            <p:cNvSpPr/>
            <p:nvPr/>
          </p:nvSpPr>
          <p:spPr>
            <a:xfrm flipH="1" flipV="1" rot="8218800">
              <a:off x="3887280" y="2683080"/>
              <a:ext cx="213120" cy="632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AutoShape 162"/>
            <p:cNvSpPr/>
            <p:nvPr/>
          </p:nvSpPr>
          <p:spPr>
            <a:xfrm flipH="1" flipV="1" rot="9034200">
              <a:off x="3818520" y="2603520"/>
              <a:ext cx="213120" cy="632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AutoShape 163"/>
            <p:cNvSpPr/>
            <p:nvPr/>
          </p:nvSpPr>
          <p:spPr>
            <a:xfrm flipH="1" flipV="1" rot="9330000">
              <a:off x="3795840" y="2546280"/>
              <a:ext cx="213120" cy="632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AutoShape 164"/>
            <p:cNvSpPr/>
            <p:nvPr/>
          </p:nvSpPr>
          <p:spPr>
            <a:xfrm flipH="1" flipV="1" rot="9862200">
              <a:off x="3771000" y="2474640"/>
              <a:ext cx="213120" cy="632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Group 165"/>
          <p:cNvGrpSpPr/>
          <p:nvPr/>
        </p:nvGrpSpPr>
        <p:grpSpPr>
          <a:xfrm>
            <a:off x="3704040" y="2251800"/>
            <a:ext cx="421920" cy="897840"/>
            <a:chOff x="3704040" y="2251800"/>
            <a:chExt cx="421920" cy="897840"/>
          </a:xfrm>
        </p:grpSpPr>
        <p:sp>
          <p:nvSpPr>
            <p:cNvPr id="745" name="AutoShape 166"/>
            <p:cNvSpPr/>
            <p:nvPr/>
          </p:nvSpPr>
          <p:spPr>
            <a:xfrm flipH="1" flipV="1" rot="9572400">
              <a:off x="3807360" y="2499480"/>
              <a:ext cx="214560" cy="632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AutoShape 167"/>
            <p:cNvSpPr/>
            <p:nvPr/>
          </p:nvSpPr>
          <p:spPr>
            <a:xfrm flipH="1" flipV="1" rot="10387800">
              <a:off x="3774600" y="2399760"/>
              <a:ext cx="214560" cy="632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AutoShape 168"/>
            <p:cNvSpPr/>
            <p:nvPr/>
          </p:nvSpPr>
          <p:spPr>
            <a:xfrm flipH="1" flipV="1" rot="10683600">
              <a:off x="3775680" y="2337840"/>
              <a:ext cx="214560" cy="632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AutoShape 169"/>
            <p:cNvSpPr/>
            <p:nvPr/>
          </p:nvSpPr>
          <p:spPr>
            <a:xfrm flipH="1" flipV="1" rot="11215800">
              <a:off x="3781800" y="2262240"/>
              <a:ext cx="214560" cy="632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Text Box 167"/>
          <p:cNvSpPr/>
          <p:nvPr/>
        </p:nvSpPr>
        <p:spPr>
          <a:xfrm>
            <a:off x="8923320" y="0"/>
            <a:ext cx="485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69"/>
          <p:cNvSpPr/>
          <p:nvPr/>
        </p:nvSpPr>
        <p:spPr>
          <a:xfrm>
            <a:off x="3870360" y="1631880"/>
            <a:ext cx="75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0,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.гр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157" descr="circuler_1"/>
          <p:cNvPicPr/>
          <p:nvPr/>
        </p:nvPicPr>
        <p:blipFill>
          <a:blip r:embed="rId7"/>
          <a:stretch/>
        </p:blipFill>
        <p:spPr>
          <a:xfrm rot="4253400">
            <a:off x="3795840" y="3848760"/>
            <a:ext cx="1197000" cy="1249560"/>
          </a:xfrm>
          <a:prstGeom prst="rect">
            <a:avLst/>
          </a:prstGeom>
          <a:ln w="0">
            <a:noFill/>
          </a:ln>
        </p:spPr>
      </p:pic>
      <p:sp>
        <p:nvSpPr>
          <p:cNvPr id="752" name="Text Box 169"/>
          <p:cNvSpPr/>
          <p:nvPr/>
        </p:nvSpPr>
        <p:spPr>
          <a:xfrm>
            <a:off x="3965400" y="4132440"/>
            <a:ext cx="93672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8,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.гр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68"/>
          <p:cNvSpPr/>
          <p:nvPr/>
        </p:nvSpPr>
        <p:spPr>
          <a:xfrm>
            <a:off x="1224000" y="2700360"/>
            <a:ext cx="22860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.ч. “Розвиток культури 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ереження об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ктів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ної спадщин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Павлоград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67,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.гр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85"/>
          <p:cNvSpPr/>
          <p:nvPr/>
        </p:nvSpPr>
        <p:spPr>
          <a:xfrm>
            <a:off x="322200" y="1131840"/>
            <a:ext cx="1430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СЬ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954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. гр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157" descr="circuler_1"/>
          <p:cNvPicPr/>
          <p:nvPr/>
        </p:nvPicPr>
        <p:blipFill>
          <a:blip r:embed="rId8"/>
          <a:stretch/>
        </p:blipFill>
        <p:spPr>
          <a:xfrm rot="4253400">
            <a:off x="4082040" y="2562840"/>
            <a:ext cx="1197000" cy="1249200"/>
          </a:xfrm>
          <a:prstGeom prst="rect">
            <a:avLst/>
          </a:prstGeom>
          <a:ln w="0">
            <a:noFill/>
          </a:ln>
        </p:spPr>
      </p:pic>
      <p:sp>
        <p:nvSpPr>
          <p:cNvPr id="756" name="AutoShape 173"/>
          <p:cNvSpPr/>
          <p:nvPr/>
        </p:nvSpPr>
        <p:spPr>
          <a:xfrm>
            <a:off x="5753160" y="2703600"/>
            <a:ext cx="3071880" cy="78588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имання театру ім.Б.Є. Захав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Прямоугольник 53"/>
          <p:cNvSpPr/>
          <p:nvPr/>
        </p:nvSpPr>
        <p:spPr>
          <a:xfrm>
            <a:off x="4157640" y="2846520"/>
            <a:ext cx="10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68,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.гр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1669745763_1-pibig-info-p-goluboi-fon-dlya-prezentatsii-krasivo-1"/>
          <p:cNvPicPr/>
          <p:nvPr/>
        </p:nvPicPr>
        <p:blipFill>
          <a:blip r:embed="rId1"/>
          <a:stretch/>
        </p:blipFill>
        <p:spPr>
          <a:xfrm>
            <a:off x="0" y="0"/>
            <a:ext cx="9361440" cy="61214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7"/>
          <p:cNvSpPr/>
          <p:nvPr/>
        </p:nvSpPr>
        <p:spPr>
          <a:xfrm>
            <a:off x="0" y="5889600"/>
            <a:ext cx="1878120" cy="65160"/>
          </a:xfrm>
          <a:prstGeom prst="rect">
            <a:avLst/>
          </a:prstGeom>
          <a:solidFill>
            <a:srgbClr val="3366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2616120" y="5889600"/>
            <a:ext cx="6745320" cy="65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Google Shape;101;p25" descr=""/>
          <p:cNvPicPr/>
          <p:nvPr/>
        </p:nvPicPr>
        <p:blipFill>
          <a:blip r:embed="rId2"/>
          <a:srcRect l="0" t="34590" r="0" b="0"/>
          <a:stretch/>
        </p:blipFill>
        <p:spPr>
          <a:xfrm>
            <a:off x="0" y="0"/>
            <a:ext cx="1297080" cy="754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7077718"/>
          <p:cNvPicPr/>
          <p:nvPr/>
        </p:nvPicPr>
        <p:blipFill>
          <a:blip r:embed="rId3"/>
          <a:stretch/>
        </p:blipFill>
        <p:spPr>
          <a:xfrm>
            <a:off x="1954080" y="5607000"/>
            <a:ext cx="588960" cy="5144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4"/>
          <p:cNvSpPr/>
          <p:nvPr/>
        </p:nvSpPr>
        <p:spPr>
          <a:xfrm>
            <a:off x="1363680" y="166680"/>
            <a:ext cx="79977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оди щодо забезпечення виконання планових надходжен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бюджетів усіх рівнів за 9 місяців 2024 рок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360360" y="1044720"/>
            <a:ext cx="885672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9 місяців 2024 року проведена робота щодо взяття на облік за неосновним місцем обліку структурних підрозділів в частині сплати ПДФО до бюджету ПМТГ за місцем розташування. За напрямком роботи, направленої на легалізацію трудових відносин з найманими працівниками, постійно проводиться аналітична та роз’яснювальна робота з платниками податків. В результаті вжитих заходів за 9 місяців 2024 року додатково оформлено 45 найманих працівника, додаткові надходження до бюджету Павлоградської міської територіальної громади податку на доходи фізичних склали 58 тис. грн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бюджету розвитку бюджету ПМТГ за 9 місяців 2024 року надійшли кошти від продажу земельних ділянок несільськогосподарського призначення  в сумі 2158,9 тис. грн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хунок виділення з бюджету ПМТГ фінансової підтримки комунальним підприємствам міста зменшився податковий борг по КП «Редакція газети «Західний Донбас» в сумі 65,6 тис. грн (в тому числі до бюджету ПМТГ –                      51,7 тис. грн: ПДФО – 22,4 тис. грн, земельний податок з юридичних осіб - 0,8 тис. грн, податок на прибуток підприємств комунальної власності - 28,1 тис. грн, екологічний податок – 0,4 тис. грн), КП «Павлоградтеплоенерго» з податку на доходи фізичних осіб - 2000,1 тис. грн (в тому числі до бюджету ПМТГ –1280,1 тис. грн).  Надана фінансова підтримка на сплату в 2024 році земельного податку на загальну суму 731,4 тис. грн, в тому числі  КП «Управління ринками» в сумі 143,9 тис. грн  та КП «Затишне місто» - 587,5 тис. грн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ягом 9 місяців 2024 року мобілізовано коштів в рахунок погашення податкового боргу в сумі 13172,6 тис. грн, в тому числі за рахунок упереджувально-профілактичних заходів та самостійної сплати  - 13001,1 тис. грн, стягнень коштів з банківських рахунків шляхом виставлення платіжних інструкцій – 25 тис. грн, надходження від територіальних відділів ДВС за виконавчими листами – 146,5 тис. грн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9155160" y="255600"/>
            <a:ext cx="16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48"/>
          <p:cNvSpPr/>
          <p:nvPr/>
        </p:nvSpPr>
        <p:spPr>
          <a:xfrm>
            <a:off x="8881200" y="0"/>
            <a:ext cx="2210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2" descr="1669745763_1-pibig-info-p-goluboi-fon-dlya-prezentatsii-krasivo-1"/>
          <p:cNvPicPr/>
          <p:nvPr/>
        </p:nvPicPr>
        <p:blipFill>
          <a:blip r:embed="rId1"/>
          <a:stretch/>
        </p:blipFill>
        <p:spPr>
          <a:xfrm>
            <a:off x="0" y="0"/>
            <a:ext cx="9361440" cy="6121440"/>
          </a:xfrm>
          <a:prstGeom prst="rect">
            <a:avLst/>
          </a:prstGeom>
          <a:ln w="0">
            <a:noFill/>
          </a:ln>
        </p:spPr>
      </p:pic>
      <p:sp>
        <p:nvSpPr>
          <p:cNvPr id="759" name="Rectangle 3"/>
          <p:cNvSpPr/>
          <p:nvPr/>
        </p:nvSpPr>
        <p:spPr>
          <a:xfrm>
            <a:off x="0" y="5805360"/>
            <a:ext cx="1878120" cy="61920"/>
          </a:xfrm>
          <a:prstGeom prst="rect">
            <a:avLst/>
          </a:prstGeom>
          <a:solidFill>
            <a:srgbClr val="3366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3040" bIns="2304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4"/>
          <p:cNvSpPr/>
          <p:nvPr/>
        </p:nvSpPr>
        <p:spPr>
          <a:xfrm>
            <a:off x="2616120" y="5759280"/>
            <a:ext cx="6745320" cy="65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Google Shape;101;p25" descr=""/>
          <p:cNvPicPr/>
          <p:nvPr/>
        </p:nvPicPr>
        <p:blipFill>
          <a:blip r:embed="rId2"/>
          <a:srcRect l="0" t="34590" r="0" b="0"/>
          <a:stretch/>
        </p:blipFill>
        <p:spPr>
          <a:xfrm>
            <a:off x="0" y="0"/>
            <a:ext cx="1143000" cy="6652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6" descr="7077718"/>
          <p:cNvPicPr/>
          <p:nvPr/>
        </p:nvPicPr>
        <p:blipFill>
          <a:blip r:embed="rId3"/>
          <a:stretch/>
        </p:blipFill>
        <p:spPr>
          <a:xfrm>
            <a:off x="1954080" y="5504040"/>
            <a:ext cx="588960" cy="512640"/>
          </a:xfrm>
          <a:prstGeom prst="rect">
            <a:avLst/>
          </a:prstGeom>
          <a:ln w="0">
            <a:noFill/>
          </a:ln>
        </p:spPr>
      </p:pic>
      <p:sp>
        <p:nvSpPr>
          <p:cNvPr id="763" name="Text Box 7"/>
          <p:cNvSpPr/>
          <p:nvPr/>
        </p:nvSpPr>
        <p:spPr>
          <a:xfrm>
            <a:off x="1363680" y="104760"/>
            <a:ext cx="7518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тки загального фонду бюдже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лагоустрій міста та дорожнє господарство за 9 місяців 2024 р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2"/>
          <p:cNvSpPr/>
          <p:nvPr/>
        </p:nvSpPr>
        <p:spPr>
          <a:xfrm>
            <a:off x="9018000" y="0"/>
            <a:ext cx="28512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5" name="Object 13"/>
          <p:cNvGraphicFramePr/>
          <p:nvPr/>
        </p:nvGraphicFramePr>
        <p:xfrm>
          <a:off x="-3240" y="828720"/>
          <a:ext cx="9364680" cy="483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6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3240" y="828720"/>
                    <a:ext cx="936468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7" name="Text Box 12"/>
          <p:cNvSpPr/>
          <p:nvPr/>
        </p:nvSpPr>
        <p:spPr>
          <a:xfrm>
            <a:off x="8445600" y="917640"/>
            <a:ext cx="7056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. гр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10"/>
          <p:cNvSpPr/>
          <p:nvPr/>
        </p:nvSpPr>
        <p:spPr>
          <a:xfrm>
            <a:off x="4681440" y="3421080"/>
            <a:ext cx="158436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ього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1275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. гр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6192720" y="5178600"/>
            <a:ext cx="3168720" cy="942840"/>
          </a:xfrm>
          <a:prstGeom prst="foldedCorner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1320" rIns="0" tIns="1944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тки ЖКГ всьог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місяців  2023р  - 104088,8 тис.гр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 місяців 2024 р  - 121275,4 тис. гр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ільшення проти 2023 року на                                17186,4 тис. грн, або на 16,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4" descr="1669745763_1-pibig-info-p-goluboi-fon-dlya-prezentatsii-krasivo-1 (1)"/>
          <p:cNvPicPr/>
          <p:nvPr/>
        </p:nvPicPr>
        <p:blipFill>
          <a:blip r:embed="rId1"/>
          <a:stretch/>
        </p:blipFill>
        <p:spPr>
          <a:xfrm>
            <a:off x="0" y="-109440"/>
            <a:ext cx="9361440" cy="623088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157" descr="circuler_1"/>
          <p:cNvPicPr/>
          <p:nvPr/>
        </p:nvPicPr>
        <p:blipFill>
          <a:blip r:embed="rId2"/>
          <a:stretch/>
        </p:blipFill>
        <p:spPr>
          <a:xfrm rot="2979600">
            <a:off x="342720" y="2935080"/>
            <a:ext cx="2817720" cy="2925720"/>
          </a:xfrm>
          <a:prstGeom prst="rect">
            <a:avLst/>
          </a:prstGeom>
          <a:ln w="0">
            <a:noFill/>
          </a:ln>
        </p:spPr>
      </p:pic>
      <p:pic>
        <p:nvPicPr>
          <p:cNvPr id="772" name="Oval 158" descr=""/>
          <p:cNvPicPr/>
          <p:nvPr/>
        </p:nvPicPr>
        <p:blipFill>
          <a:blip r:embed="rId3"/>
          <a:stretch/>
        </p:blipFill>
        <p:spPr>
          <a:xfrm>
            <a:off x="360360" y="2989440"/>
            <a:ext cx="2808360" cy="280800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286"/>
          <p:cNvSpPr/>
          <p:nvPr/>
        </p:nvSpPr>
        <p:spPr>
          <a:xfrm rot="21123000">
            <a:off x="552240" y="3746160"/>
            <a:ext cx="174780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160"/>
          <p:cNvGrpSpPr/>
          <p:nvPr/>
        </p:nvGrpSpPr>
        <p:grpSpPr>
          <a:xfrm>
            <a:off x="308880" y="4546800"/>
            <a:ext cx="1263600" cy="1110240"/>
            <a:chOff x="308880" y="4546800"/>
            <a:chExt cx="1263600" cy="1110240"/>
          </a:xfrm>
        </p:grpSpPr>
        <p:sp>
          <p:nvSpPr>
            <p:cNvPr id="775" name="AutoShape 161"/>
            <p:cNvSpPr/>
            <p:nvPr/>
          </p:nvSpPr>
          <p:spPr>
            <a:xfrm flipH="1" flipV="1" rot="6945000">
              <a:off x="886680" y="4777920"/>
              <a:ext cx="311400" cy="1026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162"/>
            <p:cNvSpPr/>
            <p:nvPr/>
          </p:nvSpPr>
          <p:spPr>
            <a:xfrm flipH="1" flipV="1" rot="7761000">
              <a:off x="736920" y="4697280"/>
              <a:ext cx="311400" cy="102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163"/>
            <p:cNvSpPr/>
            <p:nvPr/>
          </p:nvSpPr>
          <p:spPr>
            <a:xfrm flipH="1" flipV="1" rot="8056200">
              <a:off x="665640" y="4627080"/>
              <a:ext cx="311400" cy="102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AutoShape 164"/>
            <p:cNvSpPr/>
            <p:nvPr/>
          </p:nvSpPr>
          <p:spPr>
            <a:xfrm flipH="1" flipV="1" rot="8588400">
              <a:off x="585360" y="4537440"/>
              <a:ext cx="311400" cy="102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165"/>
          <p:cNvGrpSpPr/>
          <p:nvPr/>
        </p:nvGrpSpPr>
        <p:grpSpPr>
          <a:xfrm>
            <a:off x="299520" y="4228200"/>
            <a:ext cx="947880" cy="1357560"/>
            <a:chOff x="299520" y="4228200"/>
            <a:chExt cx="947880" cy="1357560"/>
          </a:xfrm>
        </p:grpSpPr>
        <p:sp>
          <p:nvSpPr>
            <p:cNvPr id="780" name="AutoShape 166"/>
            <p:cNvSpPr/>
            <p:nvPr/>
          </p:nvSpPr>
          <p:spPr>
            <a:xfrm flipH="1" flipV="1" rot="8298600">
              <a:off x="633240" y="4588560"/>
              <a:ext cx="313920" cy="102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AutoShape 167"/>
            <p:cNvSpPr/>
            <p:nvPr/>
          </p:nvSpPr>
          <p:spPr>
            <a:xfrm flipH="1" flipV="1" rot="9114600">
              <a:off x="524160" y="4456800"/>
              <a:ext cx="313920" cy="102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168"/>
            <p:cNvSpPr/>
            <p:nvPr/>
          </p:nvSpPr>
          <p:spPr>
            <a:xfrm flipH="1" flipV="1" rot="9410400">
              <a:off x="487800" y="4364280"/>
              <a:ext cx="313920" cy="102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AutoShape 169"/>
            <p:cNvSpPr/>
            <p:nvPr/>
          </p:nvSpPr>
          <p:spPr>
            <a:xfrm flipH="1" flipV="1" rot="9942600">
              <a:off x="447480" y="4250520"/>
              <a:ext cx="313920" cy="102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320" rIns="9432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4640"/>
                  <a:tab algn="l" pos="1889280"/>
                  <a:tab algn="l" pos="2833560"/>
                  <a:tab algn="l" pos="3778200"/>
                  <a:tab algn="l" pos="4722840"/>
                  <a:tab algn="l" pos="5667480"/>
                  <a:tab algn="l" pos="6611760"/>
                  <a:tab algn="l" pos="7556400"/>
                  <a:tab algn="l" pos="8501040"/>
                  <a:tab algn="l" pos="9445680"/>
                  <a:tab algn="l" pos="103903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Text Box 122"/>
          <p:cNvSpPr/>
          <p:nvPr/>
        </p:nvSpPr>
        <p:spPr>
          <a:xfrm>
            <a:off x="3002040" y="1515960"/>
            <a:ext cx="155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62"/>
          <p:cNvSpPr/>
          <p:nvPr/>
        </p:nvSpPr>
        <p:spPr>
          <a:xfrm>
            <a:off x="792000" y="3565440"/>
            <a:ext cx="19908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італьні видатки установ, соцкульт сфери, ЖКГ, заходів галузевих програ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163,1 тис.г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173"/>
          <p:cNvSpPr/>
          <p:nvPr/>
        </p:nvSpPr>
        <p:spPr>
          <a:xfrm>
            <a:off x="3392640" y="3044880"/>
            <a:ext cx="5751360" cy="22860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не управління……………………………………………             1 488,6   тис.гр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173"/>
          <p:cNvSpPr/>
          <p:nvPr/>
        </p:nvSpPr>
        <p:spPr>
          <a:xfrm>
            <a:off x="3384720" y="5508720"/>
            <a:ext cx="5976720" cy="34452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венція з місцевого бюджету державному та обласному бюджетам  13 324,2  тис.гр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Google Shape;101;p25" descr=""/>
          <p:cNvPicPr/>
          <p:nvPr/>
        </p:nvPicPr>
        <p:blipFill>
          <a:blip r:embed="rId4"/>
          <a:srcRect l="0" t="34590" r="0" b="0"/>
          <a:stretch/>
        </p:blipFill>
        <p:spPr>
          <a:xfrm>
            <a:off x="0" y="-108000"/>
            <a:ext cx="1081080" cy="5763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57" descr="circuler_1"/>
          <p:cNvPicPr/>
          <p:nvPr/>
        </p:nvPicPr>
        <p:blipFill>
          <a:blip r:embed="rId5"/>
          <a:stretch/>
        </p:blipFill>
        <p:spPr>
          <a:xfrm rot="4253400">
            <a:off x="767520" y="665640"/>
            <a:ext cx="2214360" cy="2298960"/>
          </a:xfrm>
          <a:prstGeom prst="rect">
            <a:avLst/>
          </a:prstGeom>
          <a:ln w="0">
            <a:noFill/>
          </a:ln>
        </p:spPr>
      </p:pic>
      <p:pic>
        <p:nvPicPr>
          <p:cNvPr id="790" name="Oval 158" descr=""/>
          <p:cNvPicPr/>
          <p:nvPr/>
        </p:nvPicPr>
        <p:blipFill>
          <a:blip r:embed="rId6"/>
          <a:stretch/>
        </p:blipFill>
        <p:spPr>
          <a:xfrm>
            <a:off x="720720" y="684360"/>
            <a:ext cx="2303640" cy="22320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222"/>
          <p:cNvSpPr/>
          <p:nvPr/>
        </p:nvSpPr>
        <p:spPr>
          <a:xfrm rot="796800">
            <a:off x="552600" y="1090440"/>
            <a:ext cx="175248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389"/>
          <p:cNvSpPr/>
          <p:nvPr/>
        </p:nvSpPr>
        <p:spPr>
          <a:xfrm>
            <a:off x="720720" y="900000"/>
            <a:ext cx="212724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нансова підтримка комунальних підприємст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Павлограда на поповнення статутних фонд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325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ис. гр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Заголовок 5"/>
          <p:cNvSpPr/>
          <p:nvPr/>
        </p:nvSpPr>
        <p:spPr>
          <a:xfrm>
            <a:off x="1216080" y="2160"/>
            <a:ext cx="73310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рати бюджету розвитку за 9 місяців 2024 р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ЬОГО – 126488,1 тис. г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27"/>
          <p:cNvSpPr/>
          <p:nvPr/>
        </p:nvSpPr>
        <p:spPr>
          <a:xfrm>
            <a:off x="2616120" y="5954760"/>
            <a:ext cx="6745320" cy="6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1240" bIns="2124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28"/>
          <p:cNvSpPr/>
          <p:nvPr/>
        </p:nvSpPr>
        <p:spPr>
          <a:xfrm>
            <a:off x="0" y="5954760"/>
            <a:ext cx="2027160" cy="60120"/>
          </a:xfrm>
          <a:prstGeom prst="rect">
            <a:avLst/>
          </a:prstGeom>
          <a:solidFill>
            <a:srgbClr val="3366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1240" bIns="2124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29" descr="7077718"/>
          <p:cNvPicPr/>
          <p:nvPr/>
        </p:nvPicPr>
        <p:blipFill>
          <a:blip r:embed="rId7"/>
          <a:stretch/>
        </p:blipFill>
        <p:spPr>
          <a:xfrm>
            <a:off x="2174760" y="5864400"/>
            <a:ext cx="293760" cy="257040"/>
          </a:xfrm>
          <a:prstGeom prst="rect">
            <a:avLst/>
          </a:prstGeom>
          <a:ln w="0">
            <a:noFill/>
          </a:ln>
        </p:spPr>
      </p:pic>
      <p:sp>
        <p:nvSpPr>
          <p:cNvPr id="797" name="Text Box 507"/>
          <p:cNvSpPr/>
          <p:nvPr/>
        </p:nvSpPr>
        <p:spPr>
          <a:xfrm>
            <a:off x="8809200" y="0"/>
            <a:ext cx="388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173"/>
          <p:cNvSpPr/>
          <p:nvPr/>
        </p:nvSpPr>
        <p:spPr>
          <a:xfrm>
            <a:off x="3398760" y="1700280"/>
            <a:ext cx="6319800" cy="25704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  “Павлоградтрансенерго”……………………………………       5 333,1 тис. гр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173"/>
          <p:cNvSpPr/>
          <p:nvPr/>
        </p:nvSpPr>
        <p:spPr>
          <a:xfrm>
            <a:off x="3389400" y="2058840"/>
            <a:ext cx="6319800" cy="34452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  “Затишне місто”……………………………………………..       2 284,3 тис. гр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173"/>
          <p:cNvSpPr/>
          <p:nvPr/>
        </p:nvSpPr>
        <p:spPr>
          <a:xfrm>
            <a:off x="3389400" y="2479680"/>
            <a:ext cx="6319800" cy="3459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  “Управління ринками”………………………………………      143,9    тис. гр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173"/>
          <p:cNvSpPr/>
          <p:nvPr/>
        </p:nvSpPr>
        <p:spPr>
          <a:xfrm>
            <a:off x="3384720" y="3637080"/>
            <a:ext cx="6072120" cy="2109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рона здор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….……………………………………………..              4 651,4   тис.гр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173"/>
          <p:cNvSpPr/>
          <p:nvPr/>
        </p:nvSpPr>
        <p:spPr>
          <a:xfrm>
            <a:off x="3384720" y="4573440"/>
            <a:ext cx="6048360" cy="30024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зична культура і спорт….……………………………………...              96,5     тис.гр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173"/>
          <p:cNvSpPr/>
          <p:nvPr/>
        </p:nvSpPr>
        <p:spPr>
          <a:xfrm>
            <a:off x="3384720" y="4213080"/>
            <a:ext cx="5784840" cy="29232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……………………..….………………………………...             1 508,7   тис.гр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173"/>
          <p:cNvSpPr/>
          <p:nvPr/>
        </p:nvSpPr>
        <p:spPr>
          <a:xfrm>
            <a:off x="3398760" y="836640"/>
            <a:ext cx="6319800" cy="25704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  “Павлоградводоканал”……………………………………          34 685,4  тис. гр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173"/>
          <p:cNvSpPr/>
          <p:nvPr/>
        </p:nvSpPr>
        <p:spPr>
          <a:xfrm>
            <a:off x="3409920" y="1270080"/>
            <a:ext cx="6402240" cy="34128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  “Павлоградтеплоенерго.”…………………………………         18 878,3 тис. гр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173"/>
          <p:cNvSpPr/>
          <p:nvPr/>
        </p:nvSpPr>
        <p:spPr>
          <a:xfrm>
            <a:off x="3384720" y="3916440"/>
            <a:ext cx="6048360" cy="33012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іта…………...….……………………………………………..              27 097,5 тис.гр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173"/>
          <p:cNvSpPr/>
          <p:nvPr/>
        </p:nvSpPr>
        <p:spPr>
          <a:xfrm>
            <a:off x="3384720" y="4932360"/>
            <a:ext cx="5976720" cy="34452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  “Затишне місто”……………………………………………..               451      тис. гр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173"/>
          <p:cNvSpPr/>
          <p:nvPr/>
        </p:nvSpPr>
        <p:spPr>
          <a:xfrm>
            <a:off x="3384720" y="3348000"/>
            <a:ext cx="6072120" cy="22860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ий захист………………………………………………              14 871,7  тис.гр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173"/>
          <p:cNvSpPr/>
          <p:nvPr/>
        </p:nvSpPr>
        <p:spPr>
          <a:xfrm>
            <a:off x="3384720" y="5221440"/>
            <a:ext cx="5976720" cy="344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іння комунального господарства та будівництва………              1 673,5  тис. гр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2" descr="1669745763_1-pibig-info-p-goluboi-fon-dlya-prezentatsii-krasivo-1"/>
          <p:cNvPicPr/>
          <p:nvPr/>
        </p:nvPicPr>
        <p:blipFill>
          <a:blip r:embed="rId1"/>
          <a:stretch/>
        </p:blipFill>
        <p:spPr>
          <a:xfrm>
            <a:off x="0" y="0"/>
            <a:ext cx="9361440" cy="6121440"/>
          </a:xfrm>
          <a:prstGeom prst="rect">
            <a:avLst/>
          </a:prstGeom>
          <a:ln w="0">
            <a:noFill/>
          </a:ln>
        </p:spPr>
      </p:pic>
      <p:sp>
        <p:nvSpPr>
          <p:cNvPr id="811" name="Rectangle 3"/>
          <p:cNvSpPr/>
          <p:nvPr/>
        </p:nvSpPr>
        <p:spPr>
          <a:xfrm>
            <a:off x="0" y="5824440"/>
            <a:ext cx="1878120" cy="63720"/>
          </a:xfrm>
          <a:prstGeom prst="rect">
            <a:avLst/>
          </a:prstGeom>
          <a:solidFill>
            <a:srgbClr val="3366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4840" bIns="2484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4"/>
          <p:cNvSpPr/>
          <p:nvPr/>
        </p:nvSpPr>
        <p:spPr>
          <a:xfrm>
            <a:off x="2616120" y="5824440"/>
            <a:ext cx="6745320" cy="6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4840" bIns="2484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Google Shape;101;p25" descr=""/>
          <p:cNvPicPr/>
          <p:nvPr/>
        </p:nvPicPr>
        <p:blipFill>
          <a:blip r:embed="rId2"/>
          <a:srcRect l="0" t="34590" r="0" b="0"/>
          <a:stretch/>
        </p:blipFill>
        <p:spPr>
          <a:xfrm>
            <a:off x="0" y="0"/>
            <a:ext cx="1143000" cy="665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6" descr="7077718"/>
          <p:cNvPicPr/>
          <p:nvPr/>
        </p:nvPicPr>
        <p:blipFill>
          <a:blip r:embed="rId3"/>
          <a:stretch/>
        </p:blipFill>
        <p:spPr>
          <a:xfrm>
            <a:off x="1954080" y="5607000"/>
            <a:ext cx="588960" cy="514440"/>
          </a:xfrm>
          <a:prstGeom prst="rect">
            <a:avLst/>
          </a:prstGeom>
          <a:ln w="0">
            <a:noFill/>
          </a:ln>
        </p:spPr>
      </p:pic>
      <p:sp>
        <p:nvSpPr>
          <p:cNvPr id="815" name="Rectangle 7"/>
          <p:cNvSpPr/>
          <p:nvPr/>
        </p:nvSpPr>
        <p:spPr>
          <a:xfrm>
            <a:off x="1216080" y="0"/>
            <a:ext cx="7999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споживання енергоносіїв за 9 місяців 2024 року в порівнянні  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місяцями 2023 рок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393840" y="774720"/>
          <a:ext cx="8783640" cy="3605040"/>
        </p:xfrm>
        <a:graphic>
          <a:graphicData uri="http://schemas.openxmlformats.org/drawingml/2006/table">
            <a:tbl>
              <a:tblPr/>
              <a:tblGrid>
                <a:gridCol w="1325520"/>
                <a:gridCol w="473040"/>
                <a:gridCol w="403200"/>
                <a:gridCol w="585720"/>
                <a:gridCol w="500040"/>
                <a:gridCol w="465120"/>
                <a:gridCol w="446040"/>
                <a:gridCol w="577800"/>
                <a:gridCol w="405000"/>
                <a:gridCol w="538200"/>
                <a:gridCol w="380880"/>
                <a:gridCol w="519120"/>
                <a:gridCol w="523800"/>
                <a:gridCol w="544680"/>
                <a:gridCol w="349200"/>
                <a:gridCol w="376200"/>
                <a:gridCol w="370080"/>
              </a:tblGrid>
              <a:tr h="255600">
                <a:tc rowSpan="4">
                  <a:txBody>
                    <a:bodyPr lIns="82800" rIns="82800" tIns="35280" bIns="35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галуз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постачан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постачання та водовідведен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ична енергі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ий газ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еншення, збільшення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живання ( +; -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еншення, збільшення споживання ( +; -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еншення, збільшення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живання ( +; -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еншення, збільшення споживання ( +; -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атуральних одиницях 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ис. ГКал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рошових одиницях 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ис. грн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атуральних одиницях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ис. куб. м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рошових одиницях 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ис. грн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атуральних одиницях                                                   (тис. кВт⋅год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рошових одиницях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тис. грн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атуральних одиницях 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ис. куб. м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рошових одиницях 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ис. грн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0" rIns="82800" tIns="35280" bIns="35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-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35280" bIns="35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+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35280" bIns="35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-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35280" bIns="35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+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35280" bIns="35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-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35280" bIns="35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+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35280" bIns="35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-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35280" bIns="35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+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35280" bIns="35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-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35280" bIns="35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+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35280" bIns="35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-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35280" bIns="35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+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35280" bIns="35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-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35280" bIns="35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+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35280" bIns="35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-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35280" bIns="35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+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арат управлін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і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7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орона здоров'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іальний захис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зкультура і спор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82800" rIns="82800" tIns="35280" bIns="35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ього по міст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6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6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7" name="Скругленный прямоугольник 8"/>
          <p:cNvSpPr/>
          <p:nvPr/>
        </p:nvSpPr>
        <p:spPr>
          <a:xfrm>
            <a:off x="351000" y="4770360"/>
            <a:ext cx="8797680" cy="69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c7d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яг споживання  енергоносіїв бюджетними  установами міста за  9 місяців  2024 року в порівнянні  з аналогічним  періодом 2023 року  збільшився  на суму 4859,6 тис.грн, у зв’язку з  переходом   освітніх  закладів з дистанційної форми навчання  на змішану форму навчання та   виведенням  окремих бюджетних установ  з  режиму простою, зміною температурного режи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92"/>
          <p:cNvSpPr/>
          <p:nvPr/>
        </p:nvSpPr>
        <p:spPr>
          <a:xfrm>
            <a:off x="0" y="5824440"/>
            <a:ext cx="1878120" cy="63720"/>
          </a:xfrm>
          <a:prstGeom prst="rect">
            <a:avLst/>
          </a:prstGeom>
          <a:solidFill>
            <a:srgbClr val="3366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4840" bIns="2484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193" descr="7077718"/>
          <p:cNvPicPr/>
          <p:nvPr/>
        </p:nvPicPr>
        <p:blipFill>
          <a:blip r:embed="rId4"/>
          <a:stretch/>
        </p:blipFill>
        <p:spPr>
          <a:xfrm>
            <a:off x="1954080" y="5607000"/>
            <a:ext cx="588960" cy="51444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194"/>
          <p:cNvSpPr/>
          <p:nvPr/>
        </p:nvSpPr>
        <p:spPr>
          <a:xfrm>
            <a:off x="2616120" y="5824440"/>
            <a:ext cx="6745320" cy="6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4840" bIns="2484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95"/>
          <p:cNvSpPr/>
          <p:nvPr/>
        </p:nvSpPr>
        <p:spPr>
          <a:xfrm>
            <a:off x="0" y="5824440"/>
            <a:ext cx="1878120" cy="63720"/>
          </a:xfrm>
          <a:prstGeom prst="rect">
            <a:avLst/>
          </a:prstGeom>
          <a:solidFill>
            <a:srgbClr val="3366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4840" bIns="2484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196" descr="7077718"/>
          <p:cNvPicPr/>
          <p:nvPr/>
        </p:nvPicPr>
        <p:blipFill>
          <a:blip r:embed="rId5"/>
          <a:stretch/>
        </p:blipFill>
        <p:spPr>
          <a:xfrm>
            <a:off x="1954080" y="5607000"/>
            <a:ext cx="588960" cy="514440"/>
          </a:xfrm>
          <a:prstGeom prst="rect">
            <a:avLst/>
          </a:prstGeom>
          <a:ln w="0">
            <a:noFill/>
          </a:ln>
        </p:spPr>
      </p:pic>
      <p:sp>
        <p:nvSpPr>
          <p:cNvPr id="823" name="Text Box 197"/>
          <p:cNvSpPr/>
          <p:nvPr/>
        </p:nvSpPr>
        <p:spPr>
          <a:xfrm>
            <a:off x="9075960" y="0"/>
            <a:ext cx="28512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4" descr="1653287621_19-celes-club-p-ukrainskii-fon-dlya-prezentatsii-krasivie-21"/>
          <p:cNvPicPr/>
          <p:nvPr/>
        </p:nvPicPr>
        <p:blipFill>
          <a:blip r:embed="rId1"/>
          <a:stretch/>
        </p:blipFill>
        <p:spPr>
          <a:xfrm>
            <a:off x="0" y="0"/>
            <a:ext cx="9361440" cy="6121440"/>
          </a:xfrm>
          <a:prstGeom prst="rect">
            <a:avLst/>
          </a:prstGeom>
          <a:ln w="0">
            <a:noFill/>
          </a:ln>
        </p:spPr>
      </p:pic>
      <p:sp>
        <p:nvSpPr>
          <p:cNvPr id="825" name="Rectangle 5"/>
          <p:cNvSpPr/>
          <p:nvPr/>
        </p:nvSpPr>
        <p:spPr>
          <a:xfrm>
            <a:off x="2616120" y="5824440"/>
            <a:ext cx="6745320" cy="6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4840" bIns="2484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6"/>
          <p:cNvSpPr/>
          <p:nvPr/>
        </p:nvSpPr>
        <p:spPr>
          <a:xfrm>
            <a:off x="0" y="5824440"/>
            <a:ext cx="1878120" cy="63720"/>
          </a:xfrm>
          <a:prstGeom prst="rect">
            <a:avLst/>
          </a:prstGeom>
          <a:solidFill>
            <a:srgbClr val="3366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4840" bIns="2484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7" descr="7077718"/>
          <p:cNvPicPr/>
          <p:nvPr/>
        </p:nvPicPr>
        <p:blipFill>
          <a:blip r:embed="rId2"/>
          <a:stretch/>
        </p:blipFill>
        <p:spPr>
          <a:xfrm>
            <a:off x="1954080" y="5607000"/>
            <a:ext cx="588960" cy="51444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8"/>
          <p:cNvSpPr/>
          <p:nvPr/>
        </p:nvSpPr>
        <p:spPr>
          <a:xfrm>
            <a:off x="1800000" y="2354400"/>
            <a:ext cx="57456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1669745763_1-pibig-info-p-goluboi-fon-dlya-prezentatsii-krasivo-1"/>
          <p:cNvPicPr/>
          <p:nvPr/>
        </p:nvPicPr>
        <p:blipFill>
          <a:blip r:embed="rId1"/>
          <a:stretch/>
        </p:blipFill>
        <p:spPr>
          <a:xfrm>
            <a:off x="0" y="0"/>
            <a:ext cx="9361440" cy="61214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3"/>
          <p:cNvSpPr/>
          <p:nvPr/>
        </p:nvSpPr>
        <p:spPr>
          <a:xfrm>
            <a:off x="0" y="5889600"/>
            <a:ext cx="1878120" cy="65160"/>
          </a:xfrm>
          <a:prstGeom prst="rect">
            <a:avLst/>
          </a:prstGeom>
          <a:solidFill>
            <a:srgbClr val="3366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2616120" y="5889600"/>
            <a:ext cx="6745320" cy="65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Google Shape;101;p25" descr=""/>
          <p:cNvPicPr/>
          <p:nvPr/>
        </p:nvPicPr>
        <p:blipFill>
          <a:blip r:embed="rId2"/>
          <a:srcRect l="0" t="34590" r="0" b="0"/>
          <a:stretch/>
        </p:blipFill>
        <p:spPr>
          <a:xfrm>
            <a:off x="0" y="0"/>
            <a:ext cx="1297080" cy="754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7077718"/>
          <p:cNvPicPr/>
          <p:nvPr/>
        </p:nvPicPr>
        <p:blipFill>
          <a:blip r:embed="rId3"/>
          <a:stretch/>
        </p:blipFill>
        <p:spPr>
          <a:xfrm>
            <a:off x="1954080" y="5607000"/>
            <a:ext cx="588960" cy="514440"/>
          </a:xfrm>
          <a:prstGeom prst="rect">
            <a:avLst/>
          </a:prstGeom>
          <a:ln w="0">
            <a:noFill/>
          </a:ln>
        </p:spPr>
      </p:pic>
      <p:sp>
        <p:nvSpPr>
          <p:cNvPr id="220" name="Заголовок 5"/>
          <p:cNvSpPr/>
          <p:nvPr/>
        </p:nvSpPr>
        <p:spPr>
          <a:xfrm>
            <a:off x="1289160" y="212760"/>
            <a:ext cx="77976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ння дохідної частини бюджету  Павлоградської міської територіальної громади за 9 місяців 2023 - 2024 років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8072280" y="939960"/>
            <a:ext cx="10526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 гр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Диаграмма 9"/>
          <p:cNvGraphicFramePr/>
          <p:nvPr/>
        </p:nvGraphicFramePr>
        <p:xfrm>
          <a:off x="219240" y="1042920"/>
          <a:ext cx="8943840" cy="4616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23" name="Диаграмма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240" y="1042920"/>
                    <a:ext cx="8943840" cy="46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14"/>
          <p:cNvSpPr/>
          <p:nvPr/>
        </p:nvSpPr>
        <p:spPr>
          <a:xfrm>
            <a:off x="6048360" y="1332000"/>
            <a:ext cx="313704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880" rIns="38880" tIns="2736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ього доході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місяців 2023 року– 6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місяців 2024 року– 790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ільшення доході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94,7 млн грн або на 13,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48"/>
          <p:cNvSpPr/>
          <p:nvPr/>
        </p:nvSpPr>
        <p:spPr>
          <a:xfrm>
            <a:off x="8881200" y="0"/>
            <a:ext cx="2210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4248000" y="973080"/>
            <a:ext cx="1460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1669745763_1-pibig-info-p-goluboi-fon-dlya-prezentatsii-krasivo-1"/>
          <p:cNvPicPr/>
          <p:nvPr/>
        </p:nvPicPr>
        <p:blipFill>
          <a:blip r:embed="rId1"/>
          <a:stretch/>
        </p:blipFill>
        <p:spPr>
          <a:xfrm>
            <a:off x="0" y="0"/>
            <a:ext cx="9361440" cy="61214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3"/>
          <p:cNvSpPr/>
          <p:nvPr/>
        </p:nvSpPr>
        <p:spPr>
          <a:xfrm>
            <a:off x="0" y="5889600"/>
            <a:ext cx="1878120" cy="65160"/>
          </a:xfrm>
          <a:prstGeom prst="rect">
            <a:avLst/>
          </a:prstGeom>
          <a:solidFill>
            <a:srgbClr val="3366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616120" y="5889600"/>
            <a:ext cx="6745320" cy="65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Google Shape;101;p25" descr=""/>
          <p:cNvPicPr/>
          <p:nvPr/>
        </p:nvPicPr>
        <p:blipFill>
          <a:blip r:embed="rId2"/>
          <a:srcRect l="0" t="34590" r="0" b="0"/>
          <a:stretch/>
        </p:blipFill>
        <p:spPr>
          <a:xfrm>
            <a:off x="0" y="0"/>
            <a:ext cx="1297080" cy="754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7077718"/>
          <p:cNvPicPr/>
          <p:nvPr/>
        </p:nvPicPr>
        <p:blipFill>
          <a:blip r:embed="rId3"/>
          <a:stretch/>
        </p:blipFill>
        <p:spPr>
          <a:xfrm>
            <a:off x="1954080" y="5607000"/>
            <a:ext cx="588960" cy="5144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9"/>
          <p:cNvSpPr/>
          <p:nvPr/>
        </p:nvSpPr>
        <p:spPr>
          <a:xfrm>
            <a:off x="1574640" y="120600"/>
            <a:ext cx="74073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 доходів загального фонду бюджету Павлоградської міської територіальної громади за 9 місяців 2024 року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11"/>
          <p:cNvGraphicFramePr/>
          <p:nvPr/>
        </p:nvGraphicFramePr>
        <p:xfrm>
          <a:off x="0" y="757080"/>
          <a:ext cx="9198000" cy="4627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34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757080"/>
                    <a:ext cx="9198000" cy="46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Text Box 448"/>
          <p:cNvSpPr/>
          <p:nvPr/>
        </p:nvSpPr>
        <p:spPr>
          <a:xfrm>
            <a:off x="8881200" y="0"/>
            <a:ext cx="2210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1669745763_1-pibig-info-p-goluboi-fon-dlya-prezentatsii-krasivo-1"/>
          <p:cNvPicPr/>
          <p:nvPr/>
        </p:nvPicPr>
        <p:blipFill>
          <a:blip r:embed="rId1"/>
          <a:stretch/>
        </p:blipFill>
        <p:spPr>
          <a:xfrm>
            <a:off x="0" y="0"/>
            <a:ext cx="9361440" cy="61214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0" y="5889600"/>
            <a:ext cx="1878120" cy="65160"/>
          </a:xfrm>
          <a:prstGeom prst="rect">
            <a:avLst/>
          </a:prstGeom>
          <a:solidFill>
            <a:srgbClr val="3366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2616120" y="5889600"/>
            <a:ext cx="6745320" cy="65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Google Shape;101;p25" descr=""/>
          <p:cNvPicPr/>
          <p:nvPr/>
        </p:nvPicPr>
        <p:blipFill>
          <a:blip r:embed="rId2"/>
          <a:srcRect l="0" t="34590" r="0" b="0"/>
          <a:stretch/>
        </p:blipFill>
        <p:spPr>
          <a:xfrm>
            <a:off x="0" y="0"/>
            <a:ext cx="1297080" cy="754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7077718"/>
          <p:cNvPicPr/>
          <p:nvPr/>
        </p:nvPicPr>
        <p:blipFill>
          <a:blip r:embed="rId3"/>
          <a:stretch/>
        </p:blipFill>
        <p:spPr>
          <a:xfrm>
            <a:off x="1954080" y="5607000"/>
            <a:ext cx="588960" cy="514440"/>
          </a:xfrm>
          <a:prstGeom prst="rect">
            <a:avLst/>
          </a:prstGeom>
          <a:ln w="0">
            <a:noFill/>
          </a:ln>
        </p:spPr>
      </p:pic>
      <p:sp>
        <p:nvSpPr>
          <p:cNvPr id="241" name="Заголовок 5"/>
          <p:cNvSpPr/>
          <p:nvPr/>
        </p:nvSpPr>
        <p:spPr>
          <a:xfrm>
            <a:off x="1289160" y="318960"/>
            <a:ext cx="7740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власних доходів загального фонду бюджету Павлоградської міської територіальної громади з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місяців 2024 рок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13"/>
          <p:cNvGraphicFramePr/>
          <p:nvPr/>
        </p:nvGraphicFramePr>
        <p:xfrm>
          <a:off x="7920" y="900000"/>
          <a:ext cx="9353520" cy="50119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43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20" y="900000"/>
                    <a:ext cx="9353520" cy="50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Text Box 448"/>
          <p:cNvSpPr/>
          <p:nvPr/>
        </p:nvSpPr>
        <p:spPr>
          <a:xfrm>
            <a:off x="8881200" y="0"/>
            <a:ext cx="2210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1669745763_1-pibig-info-p-goluboi-fon-dlya-prezentatsii-krasivo-1"/>
          <p:cNvPicPr/>
          <p:nvPr/>
        </p:nvPicPr>
        <p:blipFill>
          <a:blip r:embed="rId1"/>
          <a:stretch/>
        </p:blipFill>
        <p:spPr>
          <a:xfrm>
            <a:off x="0" y="0"/>
            <a:ext cx="9361440" cy="6121440"/>
          </a:xfrm>
          <a:prstGeom prst="rect">
            <a:avLst/>
          </a:prstGeom>
          <a:ln w="0">
            <a:noFill/>
          </a:ln>
        </p:spPr>
      </p:pic>
      <p:sp>
        <p:nvSpPr>
          <p:cNvPr id="246" name="Заголовок 5"/>
          <p:cNvSpPr/>
          <p:nvPr/>
        </p:nvSpPr>
        <p:spPr>
          <a:xfrm>
            <a:off x="773280" y="0"/>
            <a:ext cx="85881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i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приємства, які збільшили (зменшили) перерахування податку на доходи фізичних осіб   в                                                 бюджет Павлоградської міської територіальної громади за 9 місяців 2024 року в порівнянні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i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9 місяцями 2023 рок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Google Shape;101;p25" descr=""/>
          <p:cNvPicPr/>
          <p:nvPr/>
        </p:nvPicPr>
        <p:blipFill>
          <a:blip r:embed="rId2"/>
          <a:srcRect l="0" t="34603" r="0" b="0"/>
          <a:stretch/>
        </p:blipFill>
        <p:spPr>
          <a:xfrm>
            <a:off x="0" y="0"/>
            <a:ext cx="920880" cy="5349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48"/>
          <p:cNvSpPr/>
          <p:nvPr/>
        </p:nvSpPr>
        <p:spPr>
          <a:xfrm>
            <a:off x="9093960" y="0"/>
            <a:ext cx="2210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16000" y="973080"/>
          <a:ext cx="8929440" cy="5146560"/>
        </p:xfrm>
        <a:graphic>
          <a:graphicData uri="http://schemas.openxmlformats.org/drawingml/2006/table">
            <a:tbl>
              <a:tblPr/>
              <a:tblGrid>
                <a:gridCol w="6661080"/>
                <a:gridCol w="1160280"/>
                <a:gridCol w="1108080"/>
              </a:tblGrid>
              <a:tr h="451080"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підприємства, устано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більшення надходж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еншення надходж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42640">
                <a:tc>
                  <a:txBody>
                    <a:bodyPr lIns="5040" rIns="504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П “НВО “Павлоградський хімічний завод”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8681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74680">
                <a:tc>
                  <a:txBody>
                    <a:bodyPr lIns="5040" rIns="504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Т “ДТЕК Павлоградвугілля”(зі структурними підрозділами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8045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49120">
                <a:tc>
                  <a:txBody>
                    <a:bodyPr lIns="5040" rIns="504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 “Технометалпарк”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60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95560">
                <a:tc>
                  <a:txBody>
                    <a:bodyPr lIns="5040" rIns="504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іпровська філія ТОВ “Газорозподільчі мережі України”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539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42640">
                <a:tc>
                  <a:txBody>
                    <a:bodyPr lIns="5040" rIns="504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 “Укрзалізниця”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661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43000">
                <a:tc>
                  <a:txBody>
                    <a:bodyPr lIns="5040" rIns="504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 “АТБ –маркет”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620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461880">
                <a:tc>
                  <a:txBody>
                    <a:bodyPr lIns="5040" rIns="504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лоградський машинобудівний завод ДП “Виробниче об'єднання південний машинобудівний завод імені О.М. Макарова”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304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43000">
                <a:tc>
                  <a:txBody>
                    <a:bodyPr lIns="5040" rIns="504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 “Трипільський пакувальний комбінат”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814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44440">
                <a:tc>
                  <a:txBody>
                    <a:bodyPr lIns="5040" rIns="504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 “Омега”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811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43000">
                <a:tc>
                  <a:txBody>
                    <a:bodyPr lIns="5040" rIns="504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діл освіти ПМР (зі структурними підрозділами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534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44440">
                <a:tc>
                  <a:txBody>
                    <a:bodyPr lIns="5040" rIns="504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 “Молочний Дім”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3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42640">
                <a:tc>
                  <a:txBody>
                    <a:bodyPr lIns="5040" rIns="504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 “ШПУ Гірник”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203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44800">
                <a:tc>
                  <a:txBody>
                    <a:bodyPr lIns="5040" rIns="504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П “Павлоградська лікарня інтенсивного лікування “ПМР”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990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50560">
                <a:tc>
                  <a:txBody>
                    <a:bodyPr lIns="5040" rIns="504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 “ДТЕК Дніпровські електромережі”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417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43000">
                <a:tc>
                  <a:txBody>
                    <a:bodyPr lIns="5040" rIns="504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П “Центр первинної медико – санітарної допомоги м.Павлогра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133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44440">
                <a:tc>
                  <a:txBody>
                    <a:bodyPr lIns="5040" rIns="504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 “Павлоградське пуско – налагоджувальне підприємство”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9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43000">
                <a:tc>
                  <a:txBody>
                    <a:bodyPr lIns="5040" rIns="504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 “Дніпровський механічний завод”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2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42640">
                <a:tc>
                  <a:txBody>
                    <a:bodyPr lIns="5040" rIns="504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 “Промподшипник”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5040" rIns="504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9400"/>
                          <a:tab algn="l" pos="1558800"/>
                          <a:tab algn="l" pos="2338560"/>
                          <a:tab algn="l" pos="3117960"/>
                          <a:tab algn="l" pos="3897360"/>
                          <a:tab algn="l" pos="4676760"/>
                          <a:tab algn="l" pos="5456160"/>
                          <a:tab algn="l" pos="6235560"/>
                          <a:tab algn="l" pos="7015320"/>
                          <a:tab algn="l" pos="7794720"/>
                          <a:tab algn="l" pos="8574120"/>
                          <a:tab algn="l" pos="9353520"/>
                          <a:tab algn="l" pos="10132920"/>
                          <a:tab algn="l" pos="10912320"/>
                        </a:tabLst>
                      </a:pPr>
                      <a:r>
                        <a:rPr b="1" lang="uk-UA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65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f5f9"/>
                    </a:solidFill>
                  </a:tcPr>
                </a:tc>
              </a:tr>
            </a:tbl>
          </a:graphicData>
        </a:graphic>
      </p:graphicFrame>
      <p:sp>
        <p:nvSpPr>
          <p:cNvPr id="250" name="TextBox 6"/>
          <p:cNvSpPr/>
          <p:nvPr/>
        </p:nvSpPr>
        <p:spPr>
          <a:xfrm>
            <a:off x="8497800" y="53964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 гр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1669745763_1-pibig-info-p-goluboi-fon-dlya-prezentatsii-krasivo-1"/>
          <p:cNvPicPr/>
          <p:nvPr/>
        </p:nvPicPr>
        <p:blipFill>
          <a:blip r:embed="rId1"/>
          <a:stretch/>
        </p:blipFill>
        <p:spPr>
          <a:xfrm>
            <a:off x="0" y="0"/>
            <a:ext cx="9361440" cy="61214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0" y="5759280"/>
            <a:ext cx="1878120" cy="65160"/>
          </a:xfrm>
          <a:prstGeom prst="rect">
            <a:avLst/>
          </a:prstGeom>
          <a:solidFill>
            <a:srgbClr val="3366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2616120" y="5759280"/>
            <a:ext cx="6745320" cy="65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Google Shape;101;p25" descr=""/>
          <p:cNvPicPr/>
          <p:nvPr/>
        </p:nvPicPr>
        <p:blipFill>
          <a:blip r:embed="rId2"/>
          <a:srcRect l="0" t="34590" r="0" b="0"/>
          <a:stretch/>
        </p:blipFill>
        <p:spPr>
          <a:xfrm>
            <a:off x="0" y="0"/>
            <a:ext cx="1297080" cy="754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7077718"/>
          <p:cNvPicPr/>
          <p:nvPr/>
        </p:nvPicPr>
        <p:blipFill>
          <a:blip r:embed="rId3"/>
          <a:stretch/>
        </p:blipFill>
        <p:spPr>
          <a:xfrm>
            <a:off x="1954080" y="5504040"/>
            <a:ext cx="588960" cy="512640"/>
          </a:xfrm>
          <a:prstGeom prst="rect">
            <a:avLst/>
          </a:prstGeom>
          <a:ln w="0">
            <a:noFill/>
          </a:ln>
        </p:spPr>
      </p:pic>
      <p:sp>
        <p:nvSpPr>
          <p:cNvPr id="256" name="Заголовок 5"/>
          <p:cNvSpPr/>
          <p:nvPr/>
        </p:nvSpPr>
        <p:spPr>
          <a:xfrm>
            <a:off x="1143000" y="104760"/>
            <a:ext cx="8218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місцевих податків загального фонду бюджету Павлоградської міської територіальної громади за  9 місяців 2024 рок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Object 13"/>
          <p:cNvGraphicFramePr/>
          <p:nvPr/>
        </p:nvGraphicFramePr>
        <p:xfrm>
          <a:off x="200160" y="684360"/>
          <a:ext cx="9161280" cy="5276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58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0160" y="684360"/>
                    <a:ext cx="916128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 Box 448"/>
          <p:cNvSpPr/>
          <p:nvPr/>
        </p:nvSpPr>
        <p:spPr>
          <a:xfrm>
            <a:off x="9093960" y="0"/>
            <a:ext cx="2210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1669745763_1-pibig-info-p-goluboi-fon-dlya-prezentatsii-krasivo-1"/>
          <p:cNvPicPr/>
          <p:nvPr/>
        </p:nvPicPr>
        <p:blipFill>
          <a:blip r:embed="rId1"/>
          <a:stretch/>
        </p:blipFill>
        <p:spPr>
          <a:xfrm>
            <a:off x="0" y="0"/>
            <a:ext cx="9361440" cy="61214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3"/>
          <p:cNvSpPr/>
          <p:nvPr/>
        </p:nvSpPr>
        <p:spPr>
          <a:xfrm>
            <a:off x="0" y="5759280"/>
            <a:ext cx="1878120" cy="65160"/>
          </a:xfrm>
          <a:prstGeom prst="rect">
            <a:avLst/>
          </a:prstGeom>
          <a:solidFill>
            <a:srgbClr val="3366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2616120" y="5759280"/>
            <a:ext cx="6745320" cy="65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Google Shape;101;p25" descr=""/>
          <p:cNvPicPr/>
          <p:nvPr/>
        </p:nvPicPr>
        <p:blipFill>
          <a:blip r:embed="rId2"/>
          <a:srcRect l="0" t="34590" r="0" b="0"/>
          <a:stretch/>
        </p:blipFill>
        <p:spPr>
          <a:xfrm>
            <a:off x="0" y="0"/>
            <a:ext cx="1216080" cy="7063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7077718"/>
          <p:cNvPicPr/>
          <p:nvPr/>
        </p:nvPicPr>
        <p:blipFill>
          <a:blip r:embed="rId3"/>
          <a:stretch/>
        </p:blipFill>
        <p:spPr>
          <a:xfrm>
            <a:off x="1954080" y="5504040"/>
            <a:ext cx="588960" cy="512640"/>
          </a:xfrm>
          <a:prstGeom prst="rect">
            <a:avLst/>
          </a:prstGeom>
          <a:ln w="0">
            <a:noFill/>
          </a:ln>
        </p:spPr>
      </p:pic>
      <p:sp>
        <p:nvSpPr>
          <p:cNvPr id="265" name="Заголовок 4"/>
          <p:cNvSpPr/>
          <p:nvPr/>
        </p:nvSpPr>
        <p:spPr>
          <a:xfrm>
            <a:off x="1216080" y="0"/>
            <a:ext cx="7888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доходів спеціального фонду бюджету </a:t>
            </a:r>
            <a:br>
              <a:rPr sz="1900"/>
            </a:b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лоградської міської територіальної громади за 9 місяців 2024 рок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13"/>
          <p:cNvGraphicFramePr/>
          <p:nvPr/>
        </p:nvGraphicFramePr>
        <p:xfrm>
          <a:off x="219240" y="685800"/>
          <a:ext cx="8926200" cy="46180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67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240" y="685800"/>
                    <a:ext cx="892620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 Box 448"/>
          <p:cNvSpPr/>
          <p:nvPr/>
        </p:nvSpPr>
        <p:spPr>
          <a:xfrm>
            <a:off x="8881200" y="0"/>
            <a:ext cx="2210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6192720" y="4716360"/>
            <a:ext cx="3022560" cy="1100160"/>
          </a:xfrm>
          <a:prstGeom prst="rect">
            <a:avLst/>
          </a:prstGeom>
          <a:solidFill>
            <a:srgbClr val="91c6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ходженн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місяців 2023 року – 211,9 млн гр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місяців 2024 року – 138,9 млн гр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73 млн грн або на -34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669745763_1-pibig-info-p-goluboi-fon-dlya-prezentatsii-krasivo-1"/>
          <p:cNvPicPr/>
          <p:nvPr/>
        </p:nvPicPr>
        <p:blipFill>
          <a:blip r:embed="rId1"/>
          <a:stretch/>
        </p:blipFill>
        <p:spPr>
          <a:xfrm>
            <a:off x="0" y="0"/>
            <a:ext cx="9361440" cy="612144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5889600"/>
            <a:ext cx="1878120" cy="65160"/>
          </a:xfrm>
          <a:prstGeom prst="rect">
            <a:avLst/>
          </a:prstGeom>
          <a:solidFill>
            <a:srgbClr val="3366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2616120" y="5889600"/>
            <a:ext cx="6745320" cy="65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Google Shape;101;p25" descr=""/>
          <p:cNvPicPr/>
          <p:nvPr/>
        </p:nvPicPr>
        <p:blipFill>
          <a:blip r:embed="rId2"/>
          <a:srcRect l="0" t="34590" r="0" b="0"/>
          <a:stretch/>
        </p:blipFill>
        <p:spPr>
          <a:xfrm>
            <a:off x="0" y="0"/>
            <a:ext cx="1297080" cy="754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7077718"/>
          <p:cNvPicPr/>
          <p:nvPr/>
        </p:nvPicPr>
        <p:blipFill>
          <a:blip r:embed="rId3"/>
          <a:stretch/>
        </p:blipFill>
        <p:spPr>
          <a:xfrm>
            <a:off x="1954080" y="5607000"/>
            <a:ext cx="588960" cy="5144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4"/>
          <p:cNvSpPr/>
          <p:nvPr/>
        </p:nvSpPr>
        <p:spPr>
          <a:xfrm>
            <a:off x="8366040" y="746280"/>
            <a:ext cx="85428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0" tIns="2736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5"/>
          <p:cNvSpPr/>
          <p:nvPr/>
        </p:nvSpPr>
        <p:spPr>
          <a:xfrm>
            <a:off x="0" y="5889600"/>
            <a:ext cx="1878120" cy="65160"/>
          </a:xfrm>
          <a:prstGeom prst="rect">
            <a:avLst/>
          </a:prstGeom>
          <a:solidFill>
            <a:srgbClr val="3366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6" descr="7077718"/>
          <p:cNvPicPr/>
          <p:nvPr/>
        </p:nvPicPr>
        <p:blipFill>
          <a:blip r:embed="rId4"/>
          <a:stretch/>
        </p:blipFill>
        <p:spPr>
          <a:xfrm>
            <a:off x="1954080" y="5607000"/>
            <a:ext cx="588960" cy="51444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7"/>
          <p:cNvSpPr/>
          <p:nvPr/>
        </p:nvSpPr>
        <p:spPr>
          <a:xfrm>
            <a:off x="2616120" y="5889600"/>
            <a:ext cx="6745320" cy="65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8"/>
          <p:cNvSpPr/>
          <p:nvPr/>
        </p:nvSpPr>
        <p:spPr>
          <a:xfrm>
            <a:off x="0" y="5889600"/>
            <a:ext cx="1878120" cy="65160"/>
          </a:xfrm>
          <a:prstGeom prst="rect">
            <a:avLst/>
          </a:prstGeom>
          <a:solidFill>
            <a:srgbClr val="3366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26280" bIns="26280" anchor="ctr">
            <a:noAutofit/>
          </a:bodyPr>
          <a:p>
            <a:pPr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9" descr="7077718"/>
          <p:cNvPicPr/>
          <p:nvPr/>
        </p:nvPicPr>
        <p:blipFill>
          <a:blip r:embed="rId5"/>
          <a:stretch/>
        </p:blipFill>
        <p:spPr>
          <a:xfrm>
            <a:off x="1954080" y="5607000"/>
            <a:ext cx="588960" cy="51444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448"/>
          <p:cNvSpPr/>
          <p:nvPr/>
        </p:nvSpPr>
        <p:spPr>
          <a:xfrm>
            <a:off x="8881200" y="0"/>
            <a:ext cx="2210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Диаграмма 19" descr=""/>
          <p:cNvPicPr/>
          <p:nvPr/>
        </p:nvPicPr>
        <p:blipFill>
          <a:blip r:embed="rId6"/>
          <a:stretch/>
        </p:blipFill>
        <p:spPr>
          <a:xfrm>
            <a:off x="0" y="-6480"/>
            <a:ext cx="9107640" cy="58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05T09:20:01Z</dcterms:created>
  <dc:creator>user</dc:creator>
  <dc:description/>
  <dc:language>en-US</dc:language>
  <cp:lastModifiedBy>user</cp:lastModifiedBy>
  <dcterms:modified xsi:type="dcterms:W3CDTF">2024-10-14T13:16:25Z</dcterms:modified>
  <cp:revision>1401</cp:revision>
  <dc:subject/>
  <dc:title>Слайд 1</dc:title>
</cp:coreProperties>
</file>